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3.wmf" ContentType="image/x-wmf"/>
  <Override PartName="/ppt/media/image6.png" ContentType="image/png"/>
  <Override PartName="/ppt/media/image14.wmf" ContentType="image/x-wmf"/>
  <Override PartName="/ppt/media/image11.png" ContentType="image/png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10.jpeg" ContentType="image/jpeg"/>
  <Override PartName="/ppt/media/image29.jpeg" ContentType="image/jpeg"/>
  <Override PartName="/ppt/media/image8.wmf" ContentType="image/x-wmf"/>
  <Override PartName="/ppt/media/image9.wmf" ContentType="image/x-wmf"/>
  <Override PartName="/ppt/media/image7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6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92A6-1237-47FA-BF33-EC8927C8A9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image" Target="../media/image8.wmf"/><Relationship Id="rId6" Type="http://schemas.openxmlformats.org/officeDocument/2006/relationships/image" Target="../media/image2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8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jpeg"/><Relationship Id="rId3" Type="http://schemas.openxmlformats.org/officeDocument/2006/relationships/image" Target="../media/image13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9.jpeg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24.wmf"/><Relationship Id="rId18" Type="http://schemas.openxmlformats.org/officeDocument/2006/relationships/image" Target="../media/image30.wmf"/><Relationship Id="rId1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wmf"/><Relationship Id="rId3" Type="http://schemas.openxmlformats.org/officeDocument/2006/relationships/image" Target="../media/image13.wmf"/><Relationship Id="rId4" Type="http://schemas.openxmlformats.org/officeDocument/2006/relationships/image" Target="../media/image17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5.png"/><Relationship Id="rId6" Type="http://schemas.openxmlformats.org/officeDocument/2006/relationships/image" Target="../media/image13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8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4.wmf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5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L-008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访问控制列表和地址转换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如何使用反掩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3915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掩码和子网掩码相似，但写法不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需要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忽略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掩码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结合使用，可以描述一个地址范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55640" y="3357720"/>
          <a:ext cx="7561440" cy="2268360"/>
        </p:xfrm>
        <a:graphic>
          <a:graphicData uri="http://schemas.openxmlformats.org/drawingml/2006/table">
            <a:tbl>
              <a:tblPr/>
              <a:tblGrid>
                <a:gridCol w="608040"/>
                <a:gridCol w="811080"/>
                <a:gridCol w="944640"/>
                <a:gridCol w="876240"/>
                <a:gridCol w="432144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比较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比较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比较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扩展访问控制列表使用除源地址外更多的信息描述数据包，表明是允许还是拒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35280" y="5813280"/>
            <a:ext cx="4841640" cy="0"/>
          </a:xfrm>
          <a:prstGeom prst="line">
            <a:avLst/>
          </a:prstGeom>
          <a:ln w="475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89080" y="3201840"/>
            <a:ext cx="3066840" cy="2232000"/>
            <a:chOff x="1189080" y="3201840"/>
            <a:chExt cx="3066840" cy="2232000"/>
          </a:xfrm>
        </p:grpSpPr>
        <p:sp>
          <p:nvSpPr>
            <p:cNvPr id="336" name=""/>
            <p:cNvSpPr/>
            <p:nvPr/>
          </p:nvSpPr>
          <p:spPr>
            <a:xfrm>
              <a:off x="1189080" y="3201840"/>
              <a:ext cx="3066840" cy="2232000"/>
            </a:xfrm>
            <a:custGeom>
              <a:avLst/>
              <a:gdLst/>
              <a:ahLst/>
              <a:rect l="l" t="t" r="r" b="b"/>
              <a:pathLst>
                <a:path w="2125" h="1593">
                  <a:moveTo>
                    <a:pt x="165" y="1389"/>
                  </a:moveTo>
                  <a:lnTo>
                    <a:pt x="149" y="1388"/>
                  </a:lnTo>
                  <a:lnTo>
                    <a:pt x="133" y="1384"/>
                  </a:lnTo>
                  <a:lnTo>
                    <a:pt x="118" y="1380"/>
                  </a:lnTo>
                  <a:lnTo>
                    <a:pt x="103" y="1374"/>
                  </a:lnTo>
                  <a:lnTo>
                    <a:pt x="89" y="1367"/>
                  </a:lnTo>
                  <a:lnTo>
                    <a:pt x="76" y="1359"/>
                  </a:lnTo>
                  <a:lnTo>
                    <a:pt x="64" y="1351"/>
                  </a:lnTo>
                  <a:lnTo>
                    <a:pt x="53" y="1340"/>
                  </a:lnTo>
                  <a:lnTo>
                    <a:pt x="41" y="1330"/>
                  </a:lnTo>
                  <a:lnTo>
                    <a:pt x="31" y="1319"/>
                  </a:lnTo>
                  <a:lnTo>
                    <a:pt x="23" y="1307"/>
                  </a:lnTo>
                  <a:lnTo>
                    <a:pt x="16" y="1294"/>
                  </a:lnTo>
                  <a:lnTo>
                    <a:pt x="9" y="1282"/>
                  </a:lnTo>
                  <a:lnTo>
                    <a:pt x="4" y="1268"/>
                  </a:lnTo>
                  <a:lnTo>
                    <a:pt x="1" y="1253"/>
                  </a:lnTo>
                  <a:lnTo>
                    <a:pt x="0" y="1238"/>
                  </a:lnTo>
                  <a:lnTo>
                    <a:pt x="0" y="151"/>
                  </a:lnTo>
                  <a:lnTo>
                    <a:pt x="1" y="137"/>
                  </a:lnTo>
                  <a:lnTo>
                    <a:pt x="4" y="123"/>
                  </a:lnTo>
                  <a:lnTo>
                    <a:pt x="9" y="110"/>
                  </a:lnTo>
                  <a:lnTo>
                    <a:pt x="16" y="96"/>
                  </a:lnTo>
                  <a:lnTo>
                    <a:pt x="23" y="84"/>
                  </a:lnTo>
                  <a:lnTo>
                    <a:pt x="31" y="71"/>
                  </a:lnTo>
                  <a:lnTo>
                    <a:pt x="41" y="60"/>
                  </a:lnTo>
                  <a:lnTo>
                    <a:pt x="53" y="49"/>
                  </a:lnTo>
                  <a:lnTo>
                    <a:pt x="64" y="40"/>
                  </a:lnTo>
                  <a:lnTo>
                    <a:pt x="76" y="31"/>
                  </a:lnTo>
                  <a:lnTo>
                    <a:pt x="89" y="24"/>
                  </a:lnTo>
                  <a:lnTo>
                    <a:pt x="103" y="16"/>
                  </a:lnTo>
                  <a:lnTo>
                    <a:pt x="118" y="11"/>
                  </a:lnTo>
                  <a:lnTo>
                    <a:pt x="133" y="7"/>
                  </a:lnTo>
                  <a:lnTo>
                    <a:pt x="149" y="3"/>
                  </a:lnTo>
                  <a:lnTo>
                    <a:pt x="165" y="0"/>
                  </a:lnTo>
                  <a:lnTo>
                    <a:pt x="1959" y="0"/>
                  </a:lnTo>
                  <a:lnTo>
                    <a:pt x="1973" y="3"/>
                  </a:lnTo>
                  <a:lnTo>
                    <a:pt x="1990" y="7"/>
                  </a:lnTo>
                  <a:lnTo>
                    <a:pt x="2004" y="11"/>
                  </a:lnTo>
                  <a:lnTo>
                    <a:pt x="2020" y="16"/>
                  </a:lnTo>
                  <a:lnTo>
                    <a:pt x="2032" y="24"/>
                  </a:lnTo>
                  <a:lnTo>
                    <a:pt x="2046" y="31"/>
                  </a:lnTo>
                  <a:lnTo>
                    <a:pt x="2058" y="40"/>
                  </a:lnTo>
                  <a:lnTo>
                    <a:pt x="2070" y="49"/>
                  </a:lnTo>
                  <a:lnTo>
                    <a:pt x="2080" y="60"/>
                  </a:lnTo>
                  <a:lnTo>
                    <a:pt x="2090" y="71"/>
                  </a:lnTo>
                  <a:lnTo>
                    <a:pt x="2098" y="84"/>
                  </a:lnTo>
                  <a:lnTo>
                    <a:pt x="2106" y="96"/>
                  </a:lnTo>
                  <a:lnTo>
                    <a:pt x="2112" y="110"/>
                  </a:lnTo>
                  <a:lnTo>
                    <a:pt x="2118" y="123"/>
                  </a:lnTo>
                  <a:lnTo>
                    <a:pt x="2121" y="137"/>
                  </a:lnTo>
                  <a:lnTo>
                    <a:pt x="2124" y="151"/>
                  </a:lnTo>
                  <a:lnTo>
                    <a:pt x="2124" y="1238"/>
                  </a:lnTo>
                  <a:lnTo>
                    <a:pt x="2121" y="1253"/>
                  </a:lnTo>
                  <a:lnTo>
                    <a:pt x="2118" y="1268"/>
                  </a:lnTo>
                  <a:lnTo>
                    <a:pt x="2112" y="1282"/>
                  </a:lnTo>
                  <a:lnTo>
                    <a:pt x="2106" y="1294"/>
                  </a:lnTo>
                  <a:lnTo>
                    <a:pt x="2098" y="1307"/>
                  </a:lnTo>
                  <a:lnTo>
                    <a:pt x="2090" y="1319"/>
                  </a:lnTo>
                  <a:lnTo>
                    <a:pt x="2080" y="1330"/>
                  </a:lnTo>
                  <a:lnTo>
                    <a:pt x="2070" y="1340"/>
                  </a:lnTo>
                  <a:lnTo>
                    <a:pt x="2058" y="1351"/>
                  </a:lnTo>
                  <a:lnTo>
                    <a:pt x="2046" y="1359"/>
                  </a:lnTo>
                  <a:lnTo>
                    <a:pt x="2032" y="1367"/>
                  </a:lnTo>
                  <a:lnTo>
                    <a:pt x="2020" y="1374"/>
                  </a:lnTo>
                  <a:lnTo>
                    <a:pt x="2004" y="1380"/>
                  </a:lnTo>
                  <a:lnTo>
                    <a:pt x="1990" y="1384"/>
                  </a:lnTo>
                  <a:lnTo>
                    <a:pt x="1973" y="1388"/>
                  </a:lnTo>
                  <a:lnTo>
                    <a:pt x="1959" y="1389"/>
                  </a:lnTo>
                  <a:lnTo>
                    <a:pt x="1803" y="1389"/>
                  </a:lnTo>
                  <a:lnTo>
                    <a:pt x="1954" y="1592"/>
                  </a:lnTo>
                  <a:lnTo>
                    <a:pt x="1591" y="1389"/>
                  </a:lnTo>
                  <a:lnTo>
                    <a:pt x="165" y="1389"/>
                  </a:lnTo>
                  <a:lnTo>
                    <a:pt x="165" y="1389"/>
                  </a:lnTo>
                </a:path>
              </a:pathLst>
            </a:custGeom>
            <a:solidFill>
              <a:srgbClr val="ffffd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0000" y="3417480"/>
              <a:ext cx="261792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从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02.110.10.0/24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来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79.100.17.1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的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使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协议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利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访问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数据包可以通过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7740720" y="4950000"/>
            <a:ext cx="8636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路由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877080" y="5373720"/>
            <a:ext cx="74448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的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391520" cy="54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U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的扩展访问列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3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rule { normal | special }{ permit | deny }  { tcp | udp } [source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ource-addr source-wildcard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| any ] [source-port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operator port1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ort2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] ] [ destination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est-addr dest- wildcard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| any ] [destination-port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operator port1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ort2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] ] [logg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的扩展访问列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3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rule { normal | special }{ permit | deny } icmp [source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ource-addr source-wildcard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| any ] [ destination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est-addr dest- wildcard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| any ] [icmp-type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cmp-type icmp-code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] [logg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其它协议的扩展访问列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3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rule { normal | special }{ permit | deny }  { ip | ospf | igmp | gre } [source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ource-addr source-wildcard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| any ] [ destination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est-addr dest- wildcard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| any ] [logg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操作符的含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39640" y="1527120"/>
          <a:ext cx="8280360" cy="4213440"/>
        </p:xfrm>
        <a:graphic>
          <a:graphicData uri="http://schemas.openxmlformats.org/drawingml/2006/table">
            <a:tbl>
              <a:tblPr/>
              <a:tblGrid>
                <a:gridCol w="3454560"/>
                <a:gridCol w="4825800"/>
              </a:tblGrid>
              <a:tr h="66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操作符及语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5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端口号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-than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-than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equal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等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1    portnumbe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介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之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55640" y="1411200"/>
            <a:ext cx="4753080" cy="1233360"/>
            <a:chOff x="755640" y="1411200"/>
            <a:chExt cx="4753080" cy="1233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764240" y="1700280"/>
              <a:ext cx="74448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755640" y="1411200"/>
              <a:ext cx="158436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62920" y="18144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.0.0/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>
              <a:stCxn id="347" idx="3"/>
              <a:endCxn id="346" idx="1"/>
            </p:cNvCxnSpPr>
            <p:nvPr/>
          </p:nvCxnSpPr>
          <p:spPr>
            <a:xfrm flipV="1">
              <a:off x="2340000" y="2026800"/>
              <a:ext cx="24249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50" name=""/>
            <p:cNvSpPr/>
            <p:nvPr/>
          </p:nvSpPr>
          <p:spPr>
            <a:xfrm>
              <a:off x="2521440" y="148284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主机重定向报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1" name=""/>
            <p:cNvGraphicFramePr/>
            <p:nvPr/>
          </p:nvGraphicFramePr>
          <p:xfrm>
            <a:off x="3276720" y="1836720"/>
            <a:ext cx="4093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1836720"/>
                      <a:ext cx="4093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52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ule deny icmp source 10.1.0.0 0.0.255.255 destination any icmp-type host-re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2567160"/>
            <a:ext cx="8280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ule deny tcp source 129.9.0.0 0.0.255.255 destination 202.38.160.0 0.0.0.255 destination-port equal www lo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4572000" y="393228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042920" y="3571920"/>
            <a:ext cx="1584360" cy="1233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50200" y="3975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9.9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/>
          <p:nvPr/>
        </p:nvCxnSpPr>
        <p:spPr>
          <a:xfrm>
            <a:off x="2771280" y="3787560"/>
            <a:ext cx="42490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4269960" y="3282840"/>
            <a:ext cx="8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788000" y="3643200"/>
          <a:ext cx="4093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643200"/>
                    <a:ext cx="409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2" name="" descr=""/>
          <p:cNvPicPr/>
          <p:nvPr/>
        </p:nvPicPr>
        <p:blipFill>
          <a:blip r:embed="rId9"/>
          <a:stretch/>
        </p:blipFill>
        <p:spPr>
          <a:xfrm>
            <a:off x="7236000" y="3571920"/>
            <a:ext cx="1584000" cy="1233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308720" y="400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56" idx="3"/>
            <a:endCxn id="355" idx="1"/>
          </p:cNvCxnSpPr>
          <p:nvPr/>
        </p:nvCxnSpPr>
        <p:spPr>
          <a:xfrm>
            <a:off x="2627280" y="4189320"/>
            <a:ext cx="1945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5" idx="3"/>
            <a:endCxn id="362" idx="1"/>
          </p:cNvCxnSpPr>
          <p:nvPr/>
        </p:nvCxnSpPr>
        <p:spPr>
          <a:xfrm flipV="1">
            <a:off x="5316480" y="4189320"/>
            <a:ext cx="19202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6647040" y="3427560"/>
            <a:ext cx="10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端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4797360"/>
            <a:ext cx="8137440" cy="1773360"/>
          </a:xfrm>
          <a:prstGeom prst="horizontalScroll">
            <a:avLst>
              <a:gd name="adj" fmla="val 12500"/>
            </a:avLst>
          </a:prstGeom>
          <a:solidFill>
            <a:srgbClr val="a3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面这条访问控制列表表示什么意思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rule deny udp source 129.9.8.0 0.0.0.255 destination 202.38.160.0 0.0.0.25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estination-port greater-than 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如何使用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4167000"/>
            <a:ext cx="739116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防火墙配置常见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用防火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义访问控制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访问控制列表应用到接口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276720" y="186372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450800" y="1647720"/>
            <a:ext cx="914400" cy="1067040"/>
          </a:xfrm>
          <a:prstGeom prst="rect">
            <a:avLst/>
          </a:prstGeom>
          <a:ln w="0">
            <a:noFill/>
          </a:ln>
        </p:spPr>
      </p:pic>
      <p:cxnSp>
        <p:nvCxnSpPr>
          <p:cNvPr id="372" name=""/>
          <p:cNvCxnSpPr>
            <a:stCxn id="371" idx="3"/>
            <a:endCxn id="370" idx="1"/>
          </p:cNvCxnSpPr>
          <p:nvPr/>
        </p:nvCxnSpPr>
        <p:spPr>
          <a:xfrm>
            <a:off x="2365200" y="2181240"/>
            <a:ext cx="912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5411880" y="1719360"/>
            <a:ext cx="2112840" cy="1172880"/>
            <a:chOff x="5411880" y="1719360"/>
            <a:chExt cx="2112840" cy="1172880"/>
          </a:xfrm>
        </p:grpSpPr>
        <p:sp>
          <p:nvSpPr>
            <p:cNvPr id="374" name=""/>
            <p:cNvSpPr/>
            <p:nvPr/>
          </p:nvSpPr>
          <p:spPr>
            <a:xfrm>
              <a:off x="5411880" y="1903320"/>
              <a:ext cx="2112840" cy="9889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5472000" y="1719360"/>
              <a:ext cx="1719000" cy="8596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76" name=""/>
          <p:cNvCxnSpPr>
            <a:stCxn id="370" idx="3"/>
            <a:endCxn id="375" idx="1"/>
          </p:cNvCxnSpPr>
          <p:nvPr/>
        </p:nvCxnSpPr>
        <p:spPr>
          <a:xfrm flipV="1">
            <a:off x="4021200" y="2149200"/>
            <a:ext cx="14515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5822280" y="1862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619520" y="1503360"/>
            <a:ext cx="366840" cy="1274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31904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司总部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16720" y="1000080"/>
            <a:ext cx="2300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2643"/>
              <a:gd name="adj5" fmla="val 110416"/>
              <a:gd name="adj6" fmla="val -63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 Black"/>
                <a:ea typeface="黑体"/>
              </a:rPr>
              <a:t>启用防火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03640" y="3159000"/>
          <a:ext cx="936720" cy="8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159000"/>
                    <a:ext cx="936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3276720" y="2367000"/>
            <a:ext cx="639720" cy="871560"/>
            <a:chOff x="3276720" y="2367000"/>
            <a:chExt cx="639720" cy="871560"/>
          </a:xfrm>
        </p:grpSpPr>
        <p:graphicFrame>
          <p:nvGraphicFramePr>
            <p:cNvPr id="384" name=""/>
            <p:cNvGraphicFramePr/>
            <p:nvPr/>
          </p:nvGraphicFramePr>
          <p:xfrm>
            <a:off x="3564000" y="2367000"/>
            <a:ext cx="352440" cy="86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64000" y="2367000"/>
                      <a:ext cx="35244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6" name=""/>
            <p:cNvGraphicFramePr/>
            <p:nvPr/>
          </p:nvGraphicFramePr>
          <p:xfrm>
            <a:off x="3276720" y="2367000"/>
            <a:ext cx="352440" cy="87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76720" y="2367000"/>
                      <a:ext cx="35244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8" name=""/>
          <p:cNvSpPr/>
          <p:nvPr/>
        </p:nvSpPr>
        <p:spPr>
          <a:xfrm flipV="1">
            <a:off x="4140360" y="2295360"/>
            <a:ext cx="0" cy="936720"/>
          </a:xfrm>
          <a:prstGeom prst="line">
            <a:avLst/>
          </a:prstGeom>
          <a:ln w="1015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84720" y="3519360"/>
            <a:ext cx="27673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4365"/>
              <a:gd name="adj5" fmla="val -67189"/>
              <a:gd name="adj6" fmla="val -67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 Black"/>
                <a:ea typeface="黑体"/>
              </a:rPr>
              <a:t>将访问控制列表应用到接口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防火墙的属性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8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或者关闭防火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irewall { enable | disabl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防火墙的缺省过滤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irewall  default { permit|deny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防火墙的状态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splay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接口上应用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39152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访问控制列表应用到接口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明在接口上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视图下配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irewall packet-filt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acl-number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 [inbound | outboun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329920" y="5711760"/>
            <a:ext cx="1629000" cy="0"/>
          </a:xfrm>
          <a:prstGeom prst="line">
            <a:avLst/>
          </a:prstGeom>
          <a:ln w="31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73320" y="52275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73040" y="3878280"/>
            <a:ext cx="2651040" cy="1733400"/>
            <a:chOff x="473040" y="3878280"/>
            <a:chExt cx="2651040" cy="1733400"/>
          </a:xfrm>
        </p:grpSpPr>
        <p:sp>
          <p:nvSpPr>
            <p:cNvPr id="397" name=""/>
            <p:cNvSpPr/>
            <p:nvPr/>
          </p:nvSpPr>
          <p:spPr>
            <a:xfrm>
              <a:off x="473040" y="3878280"/>
              <a:ext cx="2651040" cy="1733400"/>
            </a:xfrm>
            <a:custGeom>
              <a:avLst/>
              <a:gdLst/>
              <a:ahLst/>
              <a:rect l="l" t="t" r="r" b="b"/>
              <a:pathLst>
                <a:path w="1837" h="1237">
                  <a:moveTo>
                    <a:pt x="143" y="1079"/>
                  </a:moveTo>
                  <a:lnTo>
                    <a:pt x="129" y="1077"/>
                  </a:lnTo>
                  <a:lnTo>
                    <a:pt x="115" y="1075"/>
                  </a:lnTo>
                  <a:lnTo>
                    <a:pt x="102" y="1072"/>
                  </a:lnTo>
                  <a:lnTo>
                    <a:pt x="89" y="1067"/>
                  </a:lnTo>
                  <a:lnTo>
                    <a:pt x="77" y="1062"/>
                  </a:lnTo>
                  <a:lnTo>
                    <a:pt x="66" y="1056"/>
                  </a:lnTo>
                  <a:lnTo>
                    <a:pt x="55" y="1049"/>
                  </a:lnTo>
                  <a:lnTo>
                    <a:pt x="46" y="1041"/>
                  </a:lnTo>
                  <a:lnTo>
                    <a:pt x="36" y="1034"/>
                  </a:lnTo>
                  <a:lnTo>
                    <a:pt x="28" y="1025"/>
                  </a:lnTo>
                  <a:lnTo>
                    <a:pt x="20" y="1016"/>
                  </a:lnTo>
                  <a:lnTo>
                    <a:pt x="15" y="1006"/>
                  </a:lnTo>
                  <a:lnTo>
                    <a:pt x="8" y="995"/>
                  </a:lnTo>
                  <a:lnTo>
                    <a:pt x="5" y="984"/>
                  </a:lnTo>
                  <a:lnTo>
                    <a:pt x="1" y="973"/>
                  </a:lnTo>
                  <a:lnTo>
                    <a:pt x="0" y="962"/>
                  </a:lnTo>
                  <a:lnTo>
                    <a:pt x="0" y="117"/>
                  </a:lnTo>
                  <a:lnTo>
                    <a:pt x="1" y="106"/>
                  </a:lnTo>
                  <a:lnTo>
                    <a:pt x="5" y="95"/>
                  </a:lnTo>
                  <a:lnTo>
                    <a:pt x="8" y="85"/>
                  </a:lnTo>
                  <a:lnTo>
                    <a:pt x="15" y="74"/>
                  </a:lnTo>
                  <a:lnTo>
                    <a:pt x="20" y="65"/>
                  </a:lnTo>
                  <a:lnTo>
                    <a:pt x="28" y="55"/>
                  </a:lnTo>
                  <a:lnTo>
                    <a:pt x="36" y="48"/>
                  </a:lnTo>
                  <a:lnTo>
                    <a:pt x="46" y="38"/>
                  </a:lnTo>
                  <a:lnTo>
                    <a:pt x="55" y="32"/>
                  </a:lnTo>
                  <a:lnTo>
                    <a:pt x="66" y="25"/>
                  </a:lnTo>
                  <a:lnTo>
                    <a:pt x="77" y="19"/>
                  </a:lnTo>
                  <a:lnTo>
                    <a:pt x="89" y="12"/>
                  </a:lnTo>
                  <a:lnTo>
                    <a:pt x="102" y="9"/>
                  </a:lnTo>
                  <a:lnTo>
                    <a:pt x="115" y="5"/>
                  </a:lnTo>
                  <a:lnTo>
                    <a:pt x="129" y="3"/>
                  </a:lnTo>
                  <a:lnTo>
                    <a:pt x="143" y="0"/>
                  </a:lnTo>
                  <a:lnTo>
                    <a:pt x="1693" y="0"/>
                  </a:lnTo>
                  <a:lnTo>
                    <a:pt x="1706" y="3"/>
                  </a:lnTo>
                  <a:lnTo>
                    <a:pt x="1720" y="5"/>
                  </a:lnTo>
                  <a:lnTo>
                    <a:pt x="1732" y="9"/>
                  </a:lnTo>
                  <a:lnTo>
                    <a:pt x="1746" y="12"/>
                  </a:lnTo>
                  <a:lnTo>
                    <a:pt x="1757" y="19"/>
                  </a:lnTo>
                  <a:lnTo>
                    <a:pt x="1769" y="25"/>
                  </a:lnTo>
                  <a:lnTo>
                    <a:pt x="1779" y="32"/>
                  </a:lnTo>
                  <a:lnTo>
                    <a:pt x="1790" y="38"/>
                  </a:lnTo>
                  <a:lnTo>
                    <a:pt x="1798" y="48"/>
                  </a:lnTo>
                  <a:lnTo>
                    <a:pt x="1807" y="55"/>
                  </a:lnTo>
                  <a:lnTo>
                    <a:pt x="1814" y="65"/>
                  </a:lnTo>
                  <a:lnTo>
                    <a:pt x="1821" y="74"/>
                  </a:lnTo>
                  <a:lnTo>
                    <a:pt x="1826" y="85"/>
                  </a:lnTo>
                  <a:lnTo>
                    <a:pt x="1830" y="95"/>
                  </a:lnTo>
                  <a:lnTo>
                    <a:pt x="1833" y="106"/>
                  </a:lnTo>
                  <a:lnTo>
                    <a:pt x="1836" y="117"/>
                  </a:lnTo>
                  <a:lnTo>
                    <a:pt x="1836" y="962"/>
                  </a:lnTo>
                  <a:lnTo>
                    <a:pt x="1833" y="973"/>
                  </a:lnTo>
                  <a:lnTo>
                    <a:pt x="1830" y="984"/>
                  </a:lnTo>
                  <a:lnTo>
                    <a:pt x="1826" y="995"/>
                  </a:lnTo>
                  <a:lnTo>
                    <a:pt x="1821" y="1006"/>
                  </a:lnTo>
                  <a:lnTo>
                    <a:pt x="1814" y="1016"/>
                  </a:lnTo>
                  <a:lnTo>
                    <a:pt x="1807" y="1025"/>
                  </a:lnTo>
                  <a:lnTo>
                    <a:pt x="1798" y="1034"/>
                  </a:lnTo>
                  <a:lnTo>
                    <a:pt x="1790" y="1041"/>
                  </a:lnTo>
                  <a:lnTo>
                    <a:pt x="1779" y="1049"/>
                  </a:lnTo>
                  <a:lnTo>
                    <a:pt x="1769" y="1056"/>
                  </a:lnTo>
                  <a:lnTo>
                    <a:pt x="1757" y="1062"/>
                  </a:lnTo>
                  <a:lnTo>
                    <a:pt x="1746" y="1067"/>
                  </a:lnTo>
                  <a:lnTo>
                    <a:pt x="1732" y="1072"/>
                  </a:lnTo>
                  <a:lnTo>
                    <a:pt x="1720" y="1075"/>
                  </a:lnTo>
                  <a:lnTo>
                    <a:pt x="1706" y="1077"/>
                  </a:lnTo>
                  <a:lnTo>
                    <a:pt x="1693" y="1079"/>
                  </a:lnTo>
                  <a:lnTo>
                    <a:pt x="1559" y="1079"/>
                  </a:lnTo>
                  <a:lnTo>
                    <a:pt x="1689" y="1236"/>
                  </a:lnTo>
                  <a:lnTo>
                    <a:pt x="1375" y="1079"/>
                  </a:lnTo>
                  <a:lnTo>
                    <a:pt x="143" y="1079"/>
                  </a:lnTo>
                  <a:lnTo>
                    <a:pt x="143" y="107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0840" y="4044960"/>
              <a:ext cx="2261160" cy="12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访问控制列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作用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Ethernet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接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方向有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5217840" y="5659560"/>
            <a:ext cx="1824120" cy="0"/>
          </a:xfrm>
          <a:prstGeom prst="line">
            <a:avLst/>
          </a:prstGeom>
          <a:ln w="31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78480" y="524196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081840" y="3703680"/>
            <a:ext cx="2593800" cy="1798560"/>
            <a:chOff x="6081840" y="3703680"/>
            <a:chExt cx="2593800" cy="1798560"/>
          </a:xfrm>
        </p:grpSpPr>
        <p:sp>
          <p:nvSpPr>
            <p:cNvPr id="402" name=""/>
            <p:cNvSpPr/>
            <p:nvPr/>
          </p:nvSpPr>
          <p:spPr>
            <a:xfrm>
              <a:off x="6081840" y="3703680"/>
              <a:ext cx="2593800" cy="1798560"/>
            </a:xfrm>
            <a:custGeom>
              <a:avLst/>
              <a:gdLst/>
              <a:ahLst/>
              <a:rect l="l" t="t" r="r" b="b"/>
              <a:pathLst>
                <a:path w="1797" h="1284">
                  <a:moveTo>
                    <a:pt x="1656" y="1119"/>
                  </a:moveTo>
                  <a:lnTo>
                    <a:pt x="1669" y="1118"/>
                  </a:lnTo>
                  <a:lnTo>
                    <a:pt x="1682" y="1115"/>
                  </a:lnTo>
                  <a:lnTo>
                    <a:pt x="1694" y="1112"/>
                  </a:lnTo>
                  <a:lnTo>
                    <a:pt x="1707" y="1107"/>
                  </a:lnTo>
                  <a:lnTo>
                    <a:pt x="1718" y="1102"/>
                  </a:lnTo>
                  <a:lnTo>
                    <a:pt x="1730" y="1096"/>
                  </a:lnTo>
                  <a:lnTo>
                    <a:pt x="1740" y="1089"/>
                  </a:lnTo>
                  <a:lnTo>
                    <a:pt x="1751" y="1080"/>
                  </a:lnTo>
                  <a:lnTo>
                    <a:pt x="1759" y="1072"/>
                  </a:lnTo>
                  <a:lnTo>
                    <a:pt x="1767" y="1063"/>
                  </a:lnTo>
                  <a:lnTo>
                    <a:pt x="1774" y="1054"/>
                  </a:lnTo>
                  <a:lnTo>
                    <a:pt x="1781" y="1043"/>
                  </a:lnTo>
                  <a:lnTo>
                    <a:pt x="1785" y="1032"/>
                  </a:lnTo>
                  <a:lnTo>
                    <a:pt x="1790" y="1022"/>
                  </a:lnTo>
                  <a:lnTo>
                    <a:pt x="1793" y="1011"/>
                  </a:lnTo>
                  <a:lnTo>
                    <a:pt x="1796" y="998"/>
                  </a:lnTo>
                  <a:lnTo>
                    <a:pt x="1796" y="121"/>
                  </a:lnTo>
                  <a:lnTo>
                    <a:pt x="1793" y="110"/>
                  </a:lnTo>
                  <a:lnTo>
                    <a:pt x="1790" y="98"/>
                  </a:lnTo>
                  <a:lnTo>
                    <a:pt x="1785" y="87"/>
                  </a:lnTo>
                  <a:lnTo>
                    <a:pt x="1781" y="76"/>
                  </a:lnTo>
                  <a:lnTo>
                    <a:pt x="1774" y="67"/>
                  </a:lnTo>
                  <a:lnTo>
                    <a:pt x="1767" y="57"/>
                  </a:lnTo>
                  <a:lnTo>
                    <a:pt x="1759" y="48"/>
                  </a:lnTo>
                  <a:lnTo>
                    <a:pt x="1751" y="39"/>
                  </a:lnTo>
                  <a:lnTo>
                    <a:pt x="1740" y="31"/>
                  </a:lnTo>
                  <a:lnTo>
                    <a:pt x="1730" y="24"/>
                  </a:lnTo>
                  <a:lnTo>
                    <a:pt x="1718" y="19"/>
                  </a:lnTo>
                  <a:lnTo>
                    <a:pt x="1707" y="12"/>
                  </a:lnTo>
                  <a:lnTo>
                    <a:pt x="1694" y="9"/>
                  </a:lnTo>
                  <a:lnTo>
                    <a:pt x="1682" y="5"/>
                  </a:lnTo>
                  <a:lnTo>
                    <a:pt x="1669" y="2"/>
                  </a:lnTo>
                  <a:lnTo>
                    <a:pt x="1656" y="0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12" y="5"/>
                  </a:lnTo>
                  <a:lnTo>
                    <a:pt x="99" y="9"/>
                  </a:lnTo>
                  <a:lnTo>
                    <a:pt x="87" y="12"/>
                  </a:lnTo>
                  <a:lnTo>
                    <a:pt x="75" y="19"/>
                  </a:lnTo>
                  <a:lnTo>
                    <a:pt x="64" y="24"/>
                  </a:lnTo>
                  <a:lnTo>
                    <a:pt x="54" y="31"/>
                  </a:lnTo>
                  <a:lnTo>
                    <a:pt x="44" y="39"/>
                  </a:lnTo>
                  <a:lnTo>
                    <a:pt x="35" y="48"/>
                  </a:lnTo>
                  <a:lnTo>
                    <a:pt x="26" y="57"/>
                  </a:lnTo>
                  <a:lnTo>
                    <a:pt x="19" y="67"/>
                  </a:lnTo>
                  <a:lnTo>
                    <a:pt x="14" y="76"/>
                  </a:lnTo>
                  <a:lnTo>
                    <a:pt x="8" y="87"/>
                  </a:lnTo>
                  <a:lnTo>
                    <a:pt x="4" y="98"/>
                  </a:lnTo>
                  <a:lnTo>
                    <a:pt x="1" y="110"/>
                  </a:lnTo>
                  <a:lnTo>
                    <a:pt x="0" y="121"/>
                  </a:lnTo>
                  <a:lnTo>
                    <a:pt x="0" y="998"/>
                  </a:lnTo>
                  <a:lnTo>
                    <a:pt x="1" y="1011"/>
                  </a:lnTo>
                  <a:lnTo>
                    <a:pt x="4" y="1022"/>
                  </a:lnTo>
                  <a:lnTo>
                    <a:pt x="8" y="1032"/>
                  </a:lnTo>
                  <a:lnTo>
                    <a:pt x="14" y="1043"/>
                  </a:lnTo>
                  <a:lnTo>
                    <a:pt x="19" y="1054"/>
                  </a:lnTo>
                  <a:lnTo>
                    <a:pt x="26" y="1063"/>
                  </a:lnTo>
                  <a:lnTo>
                    <a:pt x="35" y="1072"/>
                  </a:lnTo>
                  <a:lnTo>
                    <a:pt x="44" y="1080"/>
                  </a:lnTo>
                  <a:lnTo>
                    <a:pt x="54" y="1089"/>
                  </a:lnTo>
                  <a:lnTo>
                    <a:pt x="64" y="1096"/>
                  </a:lnTo>
                  <a:lnTo>
                    <a:pt x="75" y="1102"/>
                  </a:lnTo>
                  <a:lnTo>
                    <a:pt x="87" y="1107"/>
                  </a:lnTo>
                  <a:lnTo>
                    <a:pt x="99" y="1112"/>
                  </a:lnTo>
                  <a:lnTo>
                    <a:pt x="112" y="1115"/>
                  </a:lnTo>
                  <a:lnTo>
                    <a:pt x="125" y="1118"/>
                  </a:lnTo>
                  <a:lnTo>
                    <a:pt x="140" y="1119"/>
                  </a:lnTo>
                  <a:lnTo>
                    <a:pt x="272" y="1119"/>
                  </a:lnTo>
                  <a:lnTo>
                    <a:pt x="145" y="1283"/>
                  </a:lnTo>
                  <a:lnTo>
                    <a:pt x="451" y="1119"/>
                  </a:lnTo>
                  <a:lnTo>
                    <a:pt x="1656" y="1119"/>
                  </a:lnTo>
                  <a:lnTo>
                    <a:pt x="1656" y="111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54360" y="3875760"/>
              <a:ext cx="221292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访问控制列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作用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Serial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接口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方向上有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93492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于时间段的包过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1200" y="1268280"/>
            <a:ext cx="7391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殊时间段内应用特殊的规则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755880" y="2565360"/>
            <a:ext cx="744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1187280" y="2637000"/>
            <a:ext cx="1600200" cy="551880"/>
            <a:chOff x="1187280" y="2637000"/>
            <a:chExt cx="1600200" cy="551880"/>
          </a:xfrm>
        </p:grpSpPr>
        <p:pic>
          <p:nvPicPr>
            <p:cNvPr id="409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1187280" y="2789280"/>
              <a:ext cx="1600200" cy="3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flipH="1">
              <a:off x="1583640" y="288432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715760" y="27781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960200" y="274284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19080" y="2884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1891800" y="2646360"/>
              <a:ext cx="177840" cy="17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"/>
            <p:cNvGrpSpPr/>
            <p:nvPr/>
          </p:nvGrpSpPr>
          <p:grpSpPr>
            <a:xfrm>
              <a:off x="2069640" y="2637000"/>
              <a:ext cx="461880" cy="487080"/>
              <a:chOff x="2069640" y="2637000"/>
              <a:chExt cx="461880" cy="487080"/>
            </a:xfrm>
          </p:grpSpPr>
          <p:pic>
            <p:nvPicPr>
              <p:cNvPr id="4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1760" y="2637000"/>
                <a:ext cx="329760" cy="43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"/>
              <p:cNvGrpSpPr/>
              <p:nvPr/>
            </p:nvGrpSpPr>
            <p:grpSpPr>
              <a:xfrm>
                <a:off x="2069640" y="2808360"/>
                <a:ext cx="290160" cy="315720"/>
                <a:chOff x="2069640" y="2808360"/>
                <a:chExt cx="290160" cy="315720"/>
              </a:xfrm>
            </p:grpSpPr>
            <p:pic>
              <p:nvPicPr>
                <p:cNvPr id="41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69640" y="2808360"/>
                  <a:ext cx="2901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419" name=""/>
                <p:cNvGraphicFramePr/>
                <p:nvPr/>
              </p:nvGraphicFramePr>
              <p:xfrm>
                <a:off x="2138760" y="2860560"/>
                <a:ext cx="141480" cy="11412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420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138760" y="2860560"/>
                          <a:ext cx="141480" cy="114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pic>
          <p:nvPicPr>
            <p:cNvPr id="421" name="" descr=""/>
            <p:cNvPicPr/>
            <p:nvPr/>
          </p:nvPicPr>
          <p:blipFill>
            <a:blip r:embed="rId8"/>
            <a:stretch/>
          </p:blipFill>
          <p:spPr>
            <a:xfrm>
              <a:off x="1638000" y="2637000"/>
              <a:ext cx="1778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9"/>
            <a:stretch/>
          </p:blipFill>
          <p:spPr>
            <a:xfrm>
              <a:off x="1720440" y="2941560"/>
              <a:ext cx="177840" cy="1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3" name="" descr=""/>
          <p:cNvPicPr/>
          <p:nvPr/>
        </p:nvPicPr>
        <p:blipFill>
          <a:blip r:embed="rId10"/>
          <a:stretch/>
        </p:blipFill>
        <p:spPr>
          <a:xfrm>
            <a:off x="826920" y="3502080"/>
            <a:ext cx="1143000" cy="10159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6372360" y="2421000"/>
            <a:ext cx="2185920" cy="1244160"/>
            <a:chOff x="6372360" y="2421000"/>
            <a:chExt cx="2185920" cy="1244160"/>
          </a:xfrm>
        </p:grpSpPr>
        <p:sp>
          <p:nvSpPr>
            <p:cNvPr id="425" name=""/>
            <p:cNvSpPr/>
            <p:nvPr/>
          </p:nvSpPr>
          <p:spPr>
            <a:xfrm>
              <a:off x="6372360" y="2616120"/>
              <a:ext cx="2185920" cy="10490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11"/>
            <a:stretch/>
          </p:blipFill>
          <p:spPr>
            <a:xfrm>
              <a:off x="6434640" y="2421000"/>
              <a:ext cx="1778400" cy="91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"/>
          <p:cNvSpPr/>
          <p:nvPr/>
        </p:nvSpPr>
        <p:spPr>
          <a:xfrm>
            <a:off x="6839640" y="27068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9" idx="2"/>
            <a:endCxn id="423" idx="3"/>
          </p:cNvCxnSpPr>
          <p:nvPr/>
        </p:nvCxnSpPr>
        <p:spPr>
          <a:xfrm flipH="1">
            <a:off x="1969200" y="3189240"/>
            <a:ext cx="18360" cy="82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6" idx="3"/>
            <a:endCxn id="407" idx="1"/>
          </p:cNvCxnSpPr>
          <p:nvPr/>
        </p:nvCxnSpPr>
        <p:spPr>
          <a:xfrm>
            <a:off x="2531880" y="2854440"/>
            <a:ext cx="1224360" cy="388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430" name=""/>
          <p:cNvCxnSpPr>
            <a:stCxn id="407" idx="3"/>
            <a:endCxn id="426" idx="1"/>
          </p:cNvCxnSpPr>
          <p:nvPr/>
        </p:nvCxnSpPr>
        <p:spPr>
          <a:xfrm flipV="1">
            <a:off x="4500360" y="2877840"/>
            <a:ext cx="1934280" cy="1512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graphicFrame>
        <p:nvGraphicFramePr>
          <p:cNvPr id="431" name=""/>
          <p:cNvGraphicFramePr/>
          <p:nvPr/>
        </p:nvGraphicFramePr>
        <p:xfrm>
          <a:off x="3708360" y="3718080"/>
          <a:ext cx="936720" cy="89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08360" y="3718080"/>
                    <a:ext cx="9367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"/>
          <p:cNvGrpSpPr/>
          <p:nvPr/>
        </p:nvGrpSpPr>
        <p:grpSpPr>
          <a:xfrm>
            <a:off x="3851280" y="3070080"/>
            <a:ext cx="639720" cy="871560"/>
            <a:chOff x="3851280" y="3070080"/>
            <a:chExt cx="639720" cy="871560"/>
          </a:xfrm>
        </p:grpSpPr>
        <p:graphicFrame>
          <p:nvGraphicFramePr>
            <p:cNvPr id="434" name=""/>
            <p:cNvGraphicFramePr/>
            <p:nvPr/>
          </p:nvGraphicFramePr>
          <p:xfrm>
            <a:off x="4138560" y="3070080"/>
            <a:ext cx="352440" cy="863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138560" y="3070080"/>
                      <a:ext cx="35244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3851280" y="3070080"/>
            <a:ext cx="352440" cy="871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851280" y="3070080"/>
                      <a:ext cx="35244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2050920" y="2583000"/>
            <a:ext cx="4321440" cy="1523880"/>
          </a:xfrm>
          <a:custGeom>
            <a:avLst/>
            <a:gdLst/>
            <a:ahLst/>
            <a:rect l="l" t="t" r="r" b="b"/>
            <a:pathLst>
              <a:path w="2722" h="960">
                <a:moveTo>
                  <a:pt x="0" y="960"/>
                </a:moveTo>
                <a:cubicBezTo>
                  <a:pt x="318" y="741"/>
                  <a:pt x="636" y="522"/>
                  <a:pt x="908" y="371"/>
                </a:cubicBezTo>
                <a:cubicBezTo>
                  <a:pt x="1180" y="220"/>
                  <a:pt x="1331" y="106"/>
                  <a:pt x="1633" y="53"/>
                </a:cubicBezTo>
                <a:cubicBezTo>
                  <a:pt x="1935" y="0"/>
                  <a:pt x="2541" y="53"/>
                  <a:pt x="2722" y="53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716360" y="3716280"/>
            <a:ext cx="4165560" cy="2459160"/>
            <a:chOff x="4716360" y="3716280"/>
            <a:chExt cx="4165560" cy="2459160"/>
          </a:xfrm>
        </p:grpSpPr>
        <p:pic>
          <p:nvPicPr>
            <p:cNvPr id="440" name="" descr=""/>
            <p:cNvPicPr/>
            <p:nvPr/>
          </p:nvPicPr>
          <p:blipFill>
            <a:blip r:embed="rId18"/>
            <a:stretch/>
          </p:blipFill>
          <p:spPr>
            <a:xfrm>
              <a:off x="4716360" y="3716280"/>
              <a:ext cx="416556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456520" y="4289400"/>
              <a:ext cx="2936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上班时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上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00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－ 下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能访问特定的站点；其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时间可以访问其他站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间段的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8120" y="1341000"/>
            <a:ext cx="7391160" cy="41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 rang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timerange { enable | disabl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t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ettr 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begin-time end-time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[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begin-time end-time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......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undo se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int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splay isin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rang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splay time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480060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理解访问控制列表的基本原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标准和扩展访问控制列表的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地址转换的基本原理和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9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日志功能的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6840" y="119664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志功能是允许在特定的主机上记录下来防火墙的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启日志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info-center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日志主机地址等相关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info-center loghost </a:t>
            </a:r>
            <a:r>
              <a:rPr b="0" i="1" lang="zh-CN" sz="2000" spc="-1" strike="noStrike">
                <a:solidFill>
                  <a:srgbClr val="3333cc"/>
                </a:solidFill>
                <a:latin typeface="Arial"/>
              </a:rPr>
              <a:t>loghost-number  ip-address  port …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日志配置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splay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4941720"/>
            <a:ext cx="7345440" cy="1224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华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Quidw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路由器上提供了非常丰富的日志功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内容请参考配置手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访问控制列表的组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6840" y="981000"/>
            <a:ext cx="73915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条访问列表可以由多条规则组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这些规则，有两种匹配顺序：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aut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confi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规则冲突时，若匹配顺序为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auto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（深度优先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描述的地址范围越小的规则，将会优先考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深度的判断要依靠通配比较位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结合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2860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ule deny 202.38.0.0  0.0.255.25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2860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ule permit 202.38.160.0  0.0.0.25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两条规则结合则表示禁止一个大网段 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2.38.0.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上的主机但允许其中的一小部分主 机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2.38.160.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的访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规则冲突时，若匹配顺序为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confi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先配置的规则会被优先考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92360" y="2852640"/>
            <a:ext cx="311400" cy="3063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43480" y="242100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56080" y="32716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01520" y="1746360"/>
            <a:ext cx="23601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访问控制列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地址转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访问控制列表与地址转换实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43480" y="417528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3492360" y="3645000"/>
            <a:ext cx="2970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提出背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39152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日益短缺的情况下提出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局域网内部有很多台主机，可是不能保证每台主机都拥有合法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，为了到达所有的内部主机都可以连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的目的，可以使用地址转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技术可以有效的隐藏内部局域网中的主机，因此同时是一种有效的网络安全保护技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可以按照用户的需要，在内部局域网内部提供给外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私有地址和公有地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934240" y="119700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333520" y="1773360"/>
            <a:ext cx="1447920" cy="100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6653160" y="3573360"/>
            <a:ext cx="144792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4060800" y="2565360"/>
            <a:ext cx="2544840" cy="1656720"/>
            <a:chOff x="4060800" y="2565360"/>
            <a:chExt cx="2544840" cy="1656720"/>
          </a:xfrm>
        </p:grpSpPr>
        <p:sp>
          <p:nvSpPr>
            <p:cNvPr id="466" name=""/>
            <p:cNvSpPr/>
            <p:nvPr/>
          </p:nvSpPr>
          <p:spPr>
            <a:xfrm>
              <a:off x="4060800" y="2825280"/>
              <a:ext cx="2544840" cy="13968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4133520" y="2565360"/>
              <a:ext cx="207036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4672800" y="2889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30640" y="21686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02640" y="16286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99600" y="40053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58440" y="28512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82600" y="22766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42960" y="46530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63" idx="2"/>
            <a:endCxn id="467" idx="1"/>
          </p:cNvCxnSpPr>
          <p:nvPr/>
        </p:nvCxnSpPr>
        <p:spPr>
          <a:xfrm>
            <a:off x="3057480" y="2778120"/>
            <a:ext cx="10771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62" idx="2"/>
          </p:cNvCxnSpPr>
          <p:nvPr/>
        </p:nvCxnSpPr>
        <p:spPr>
          <a:xfrm flipV="1">
            <a:off x="5168880" y="2201400"/>
            <a:ext cx="14896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7" idx="2"/>
            <a:endCxn id="464" idx="1"/>
          </p:cNvCxnSpPr>
          <p:nvPr/>
        </p:nvCxnSpPr>
        <p:spPr>
          <a:xfrm>
            <a:off x="5168520" y="3780000"/>
            <a:ext cx="14850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24000" y="3933720"/>
            <a:ext cx="4319280" cy="223200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3400" y="4491000"/>
            <a:ext cx="359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私有地址范围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.0.0.0         -   10.255.255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2.16.0.0     -   172.31.255.25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.168.0.0   -   192.168.255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250920" y="2622600"/>
            <a:ext cx="3600360" cy="24987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原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26920" y="4094280"/>
            <a:ext cx="965520" cy="99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763640" y="25099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55640" y="3733920"/>
            <a:ext cx="302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332000" y="3733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38560" y="3301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3708360" y="337356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5724360" y="3141720"/>
            <a:ext cx="3070080" cy="1545840"/>
            <a:chOff x="5724360" y="3141720"/>
            <a:chExt cx="3070080" cy="1545840"/>
          </a:xfrm>
        </p:grpSpPr>
        <p:sp>
          <p:nvSpPr>
            <p:cNvPr id="489" name=""/>
            <p:cNvSpPr/>
            <p:nvPr/>
          </p:nvSpPr>
          <p:spPr>
            <a:xfrm>
              <a:off x="5724360" y="3384360"/>
              <a:ext cx="307008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5"/>
            <a:stretch/>
          </p:blipFill>
          <p:spPr>
            <a:xfrm>
              <a:off x="5812200" y="3141720"/>
              <a:ext cx="249804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91" name=""/>
          <p:cNvCxnSpPr>
            <a:stCxn id="487" idx="3"/>
            <a:endCxn id="490" idx="1"/>
          </p:cNvCxnSpPr>
          <p:nvPr/>
        </p:nvCxnSpPr>
        <p:spPr>
          <a:xfrm>
            <a:off x="4452480" y="370044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6423840" y="34257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17720" y="528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27280" y="3213000"/>
            <a:ext cx="316872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63640" y="3933720"/>
            <a:ext cx="403236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09280" y="508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52360" y="21686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43280" y="1881360"/>
            <a:ext cx="1295280" cy="6458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92.168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03840" y="148428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203640" y="2637000"/>
            <a:ext cx="28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92720" y="2205000"/>
            <a:ext cx="1295280" cy="646200"/>
          </a:xfrm>
          <a:prstGeom prst="rect">
            <a:avLst/>
          </a:prstGeom>
          <a:solidFill>
            <a:srgbClr val="33cccc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202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858920" y="292428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5084640"/>
            <a:ext cx="1295640" cy="64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92.168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3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916360" y="414936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03640" y="4581360"/>
            <a:ext cx="1295640" cy="646200"/>
          </a:xfrm>
          <a:prstGeom prst="rect">
            <a:avLst/>
          </a:prstGeom>
          <a:solidFill>
            <a:srgbClr val="33cccc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202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4643280" y="4076640"/>
            <a:ext cx="865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67400" y="2976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地址转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利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C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控制地址转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920" y="508428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使用访问控制列表来决定那些主机可以访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那些不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50920" y="1452600"/>
            <a:ext cx="3600360" cy="24987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965520" cy="99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1763640" y="13399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55640" y="2563920"/>
            <a:ext cx="302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32000" y="2563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38560" y="2131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3708360" y="220356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5724360" y="1971720"/>
            <a:ext cx="3070080" cy="1545840"/>
            <a:chOff x="5724360" y="1971720"/>
            <a:chExt cx="3070080" cy="1545840"/>
          </a:xfrm>
        </p:grpSpPr>
        <p:sp>
          <p:nvSpPr>
            <p:cNvPr id="518" name=""/>
            <p:cNvSpPr/>
            <p:nvPr/>
          </p:nvSpPr>
          <p:spPr>
            <a:xfrm>
              <a:off x="5724360" y="2214360"/>
              <a:ext cx="307008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5812200" y="1971720"/>
              <a:ext cx="249804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20" name=""/>
          <p:cNvCxnSpPr>
            <a:stCxn id="516" idx="3"/>
            <a:endCxn id="519" idx="1"/>
          </p:cNvCxnSpPr>
          <p:nvPr/>
        </p:nvCxnSpPr>
        <p:spPr>
          <a:xfrm>
            <a:off x="4452480" y="253044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6423840" y="22557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73360" y="3968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27280" y="2043000"/>
            <a:ext cx="316872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763640" y="2763720"/>
            <a:ext cx="403236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9280" y="391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2360" y="907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3132000" y="2637000"/>
          <a:ext cx="409680" cy="51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32000" y="2637000"/>
                    <a:ext cx="40968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5224320" y="3429000"/>
            <a:ext cx="2516400" cy="1440000"/>
          </a:xfrm>
          <a:solidFill>
            <a:srgbClr val="ff9900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置访问控制列表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通过地址转换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不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配置任务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一个访问控制列表，规定什么样的主机可以访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Y 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地址池方式提供公有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选择的方式（地址池方式还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y 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式），在连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上允许地址转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局域网的需要，定义合适的内部服务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Easy IP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39152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y 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在地址转换的过程中直接使用接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作为转换后的源地址。在接口视图下直接配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nat outbound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acl-numb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76120" y="2820960"/>
            <a:ext cx="3600720" cy="2498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852480" y="44370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1789200" y="2852640"/>
            <a:ext cx="965160" cy="9907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81200" y="4076640"/>
            <a:ext cx="302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35720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6376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3733920" y="3716280"/>
            <a:ext cx="744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5749920" y="3484440"/>
            <a:ext cx="3069720" cy="1545840"/>
            <a:chOff x="5749920" y="3484440"/>
            <a:chExt cx="3069720" cy="1545840"/>
          </a:xfrm>
        </p:grpSpPr>
        <p:sp>
          <p:nvSpPr>
            <p:cNvPr id="542" name=""/>
            <p:cNvSpPr/>
            <p:nvPr/>
          </p:nvSpPr>
          <p:spPr>
            <a:xfrm>
              <a:off x="5749920" y="3727080"/>
              <a:ext cx="306972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5"/>
            <a:stretch/>
          </p:blipFill>
          <p:spPr>
            <a:xfrm>
              <a:off x="5837760" y="3484440"/>
              <a:ext cx="249768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4" name=""/>
          <p:cNvCxnSpPr>
            <a:stCxn id="540" idx="3"/>
            <a:endCxn id="543" idx="1"/>
          </p:cNvCxnSpPr>
          <p:nvPr/>
        </p:nvCxnSpPr>
        <p:spPr>
          <a:xfrm>
            <a:off x="4478040" y="404352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6449400" y="37688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89360" y="54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52840" y="3556080"/>
            <a:ext cx="316836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9200" y="4276800"/>
            <a:ext cx="403200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4840" y="5425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0360" y="3429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51640" y="4941720"/>
            <a:ext cx="2516040" cy="1224000"/>
          </a:xfrm>
          <a:solidFill>
            <a:srgbClr val="cccc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以直接使用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口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作为地址转换后的公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76960" y="33544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:202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使用地址池进行地址转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16000" y="458136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池用来动态、透明的为内部网络的用户分配地址。它是一些连续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集合，利用不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的字符串标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池可以支持更多的局域网用户同时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76120" y="1308240"/>
            <a:ext cx="3600720" cy="24987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852480" y="2924280"/>
            <a:ext cx="965160" cy="990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1789200" y="13399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781200" y="2563920"/>
            <a:ext cx="302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357200" y="2563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63760" y="2131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3733920" y="220356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62" name=""/>
          <p:cNvGrpSpPr/>
          <p:nvPr/>
        </p:nvGrpSpPr>
        <p:grpSpPr>
          <a:xfrm>
            <a:off x="5749920" y="1971720"/>
            <a:ext cx="3069720" cy="1545840"/>
            <a:chOff x="5749920" y="1971720"/>
            <a:chExt cx="3069720" cy="1545840"/>
          </a:xfrm>
        </p:grpSpPr>
        <p:sp>
          <p:nvSpPr>
            <p:cNvPr id="563" name=""/>
            <p:cNvSpPr/>
            <p:nvPr/>
          </p:nvSpPr>
          <p:spPr>
            <a:xfrm>
              <a:off x="5749920" y="2214360"/>
              <a:ext cx="306972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5"/>
            <a:stretch/>
          </p:blipFill>
          <p:spPr>
            <a:xfrm>
              <a:off x="5837760" y="1971720"/>
              <a:ext cx="249768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65" name=""/>
          <p:cNvCxnSpPr>
            <a:stCxn id="561" idx="3"/>
            <a:endCxn id="564" idx="1"/>
          </p:cNvCxnSpPr>
          <p:nvPr/>
        </p:nvCxnSpPr>
        <p:spPr>
          <a:xfrm>
            <a:off x="4478040" y="253044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6449400" y="22557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46440" y="3968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652840" y="2043000"/>
            <a:ext cx="316836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89200" y="2763720"/>
            <a:ext cx="403200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4840" y="391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77920" y="907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56000" y="1125360"/>
            <a:ext cx="1295640" cy="1008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45320" y="1176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43480" y="242100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56080" y="32716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01520" y="1746360"/>
            <a:ext cx="23601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访问控制列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地址转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访问控制列表与地址转换实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492360" y="200196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92360" y="28400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543480" y="417528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492360" y="3645000"/>
            <a:ext cx="29700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使用地址池进行地址转换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36000" cy="30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用地址池进行地址转换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义地址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nat  address-group 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start-addr  end-addr  pool-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接口上使用地址池进行地址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nat  outbound 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acl-numb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pool-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内部服务器的应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519200" y="26398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679920" y="285120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79" name=""/>
          <p:cNvGrpSpPr/>
          <p:nvPr/>
        </p:nvGrpSpPr>
        <p:grpSpPr>
          <a:xfrm>
            <a:off x="5697360" y="2639880"/>
            <a:ext cx="2230560" cy="1368720"/>
            <a:chOff x="5697360" y="2639880"/>
            <a:chExt cx="2230560" cy="1368720"/>
          </a:xfrm>
        </p:grpSpPr>
        <p:sp>
          <p:nvSpPr>
            <p:cNvPr id="580" name=""/>
            <p:cNvSpPr/>
            <p:nvPr/>
          </p:nvSpPr>
          <p:spPr>
            <a:xfrm>
              <a:off x="5697360" y="2854800"/>
              <a:ext cx="2230560" cy="11538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3"/>
            <a:stretch/>
          </p:blipFill>
          <p:spPr>
            <a:xfrm>
              <a:off x="5761080" y="2639880"/>
              <a:ext cx="1814760" cy="1002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82" name=""/>
          <p:cNvCxnSpPr>
            <a:stCxn id="577" idx="3"/>
            <a:endCxn id="578" idx="1"/>
          </p:cNvCxnSpPr>
          <p:nvPr/>
        </p:nvCxnSpPr>
        <p:spPr>
          <a:xfrm>
            <a:off x="2433600" y="3173040"/>
            <a:ext cx="124668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8" idx="3"/>
            <a:endCxn id="581" idx="1"/>
          </p:cNvCxnSpPr>
          <p:nvPr/>
        </p:nvCxnSpPr>
        <p:spPr>
          <a:xfrm flipV="1">
            <a:off x="4424040" y="3141000"/>
            <a:ext cx="1337400" cy="370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179400" y="29257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6272280" y="4943520"/>
            <a:ext cx="838080" cy="717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2671920" y="1557360"/>
            <a:ext cx="846000" cy="91584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103560" y="249228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5" idx="0"/>
            <a:endCxn id="581" idx="2"/>
          </p:cNvCxnSpPr>
          <p:nvPr/>
        </p:nvCxnSpPr>
        <p:spPr>
          <a:xfrm flipH="1" flipV="1">
            <a:off x="6668640" y="3642840"/>
            <a:ext cx="23040" cy="13010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2523960" y="117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97840" y="553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用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20640" y="28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27560" y="27813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ia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67200" y="1557360"/>
            <a:ext cx="2665440" cy="863640"/>
          </a:xfrm>
          <a:prstGeom prst="wedgeRectCallout">
            <a:avLst>
              <a:gd name="adj1" fmla="val -76564"/>
              <a:gd name="adj2" fmla="val 105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地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10.0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92640" y="3716280"/>
            <a:ext cx="3166920" cy="863640"/>
          </a:xfrm>
          <a:prstGeom prst="wedgeRectCallout">
            <a:avLst>
              <a:gd name="adj1" fmla="val -15314"/>
              <a:gd name="adj2" fmla="val -103490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外部地址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:202.38.16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外部端口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: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13240" y="49388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P:202.39.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84280" y="3860640"/>
            <a:ext cx="2590560" cy="2016360"/>
          </a:xfrm>
          <a:prstGeom prst="wedgeRoundRectCallout">
            <a:avLst>
              <a:gd name="adj1" fmla="val 66361"/>
              <a:gd name="adj2" fmla="val -73856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置地址转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.0.1.1←→202.38.16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←→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564000" y="5084640"/>
            <a:ext cx="2376360" cy="1208880"/>
            <a:chOff x="3564000" y="5084640"/>
            <a:chExt cx="2376360" cy="1208880"/>
          </a:xfrm>
        </p:grpSpPr>
        <p:sp>
          <p:nvSpPr>
            <p:cNvPr id="598" name=""/>
            <p:cNvSpPr/>
            <p:nvPr/>
          </p:nvSpPr>
          <p:spPr>
            <a:xfrm>
              <a:off x="3564000" y="5084640"/>
              <a:ext cx="2376360" cy="432000"/>
            </a:xfrm>
            <a:prstGeom prst="leftArrow">
              <a:avLst>
                <a:gd name="adj1" fmla="val 50000"/>
                <a:gd name="adj2" fmla="val 13752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87880" y="5589720"/>
              <a:ext cx="14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允许外部用户访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内部服务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内部服务器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391520" cy="49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部服务器配置命令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nat server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global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global-addr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{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global-port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any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domain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ft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pop2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pop3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smt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telnet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www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}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inside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 inside-addr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{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inside-port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|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any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domain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ft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pop2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pop3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smt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telnet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www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} {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protocol-number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|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i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icm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tcp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udp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此例的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nat server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global 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202.38.160.1 80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inside</a:t>
            </a:r>
            <a:r>
              <a:rPr b="0" i="1" lang="zh-CN" sz="2400" spc="-1" strike="noStrike">
                <a:solidFill>
                  <a:srgbClr val="3333cc"/>
                </a:solidFill>
                <a:latin typeface="Arial"/>
              </a:rPr>
              <a:t> 10.0.1.1 80 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NA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2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地址转换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splay 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地址转换连接有效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t aging-time {tcp | udp | icmp} 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t aging-tim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除地址转换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t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缺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对于报文内容中含有有用的地址信息的情况很难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不能处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头加密的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由于隐藏了内部主机地址，有时候会使网络调试变得复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43480" y="242100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56080" y="32716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01520" y="1746360"/>
            <a:ext cx="23601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访问控制列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地址转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访问控制列表与地址转换实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3492360" y="28400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543480" y="417528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典型访问列表和地址转换综合应用配置实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300720" y="3568680"/>
            <a:ext cx="744480" cy="65232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763640" y="31370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2050920" y="1714680"/>
            <a:ext cx="846360" cy="915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3652920" y="1697040"/>
            <a:ext cx="846000" cy="915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5308560" y="1697040"/>
            <a:ext cx="846000" cy="915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1979640" y="3716280"/>
            <a:ext cx="965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623" name=""/>
          <p:cNvGrpSpPr/>
          <p:nvPr/>
        </p:nvGrpSpPr>
        <p:grpSpPr>
          <a:xfrm>
            <a:off x="5580000" y="4797360"/>
            <a:ext cx="2494080" cy="1474560"/>
            <a:chOff x="5580000" y="4797360"/>
            <a:chExt cx="2494080" cy="1474560"/>
          </a:xfrm>
        </p:grpSpPr>
        <p:sp>
          <p:nvSpPr>
            <p:cNvPr id="624" name=""/>
            <p:cNvSpPr/>
            <p:nvPr/>
          </p:nvSpPr>
          <p:spPr>
            <a:xfrm>
              <a:off x="5580000" y="5028840"/>
              <a:ext cx="2494080" cy="124308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6"/>
            <a:stretch/>
          </p:blipFill>
          <p:spPr>
            <a:xfrm>
              <a:off x="5651280" y="4797360"/>
              <a:ext cx="2028960" cy="10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3203640" y="4941720"/>
            <a:ext cx="838080" cy="717840"/>
          </a:xfrm>
          <a:prstGeom prst="rect">
            <a:avLst/>
          </a:prstGeom>
          <a:ln w="0">
            <a:noFill/>
          </a:ln>
        </p:spPr>
      </p:pic>
      <p:cxnSp>
        <p:nvCxnSpPr>
          <p:cNvPr id="627" name=""/>
          <p:cNvCxnSpPr>
            <a:stCxn id="617" idx="2"/>
            <a:endCxn id="625" idx="0"/>
          </p:cNvCxnSpPr>
          <p:nvPr/>
        </p:nvCxnSpPr>
        <p:spPr>
          <a:xfrm flipH="1">
            <a:off x="6665400" y="4220640"/>
            <a:ext cx="8640" cy="577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28" name=""/>
          <p:cNvCxnSpPr>
            <a:stCxn id="626" idx="3"/>
            <a:endCxn id="625" idx="1"/>
          </p:cNvCxnSpPr>
          <p:nvPr/>
        </p:nvCxnSpPr>
        <p:spPr>
          <a:xfrm>
            <a:off x="4041720" y="5300640"/>
            <a:ext cx="16106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665964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11280" y="2637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67280" y="2637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4360" y="2637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11280" y="314172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07840" y="50832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52920" y="105264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T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9.38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42040" y="1071720"/>
            <a:ext cx="14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l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9.38.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9040" y="1071720"/>
            <a:ext cx="14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9.38.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87840" y="3340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司内部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30200" y="3284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9.38.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040400" y="34290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9.38.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00400" y="422100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02.38.16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38400" y="5572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特定的外部用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步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照实际情况具有以下几个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允许防火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义扩展的访问控制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接口上应用访问控制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接口上利用访问控制列表定义地址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内部服务器的地址映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416720" cy="52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]firewall enab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]firewall default per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]acl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1]rule deny ip source any destinatio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1]rule permit ip source 129.38.1.1 0 destination any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1]rule permit ip source 129.38.1.2 0 destinatio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1]rule permit ip source 129.38.1.3 0 destinatio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1]rule permit ip source 129.38.1.4 0 destination an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1]acl 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2]rule deny ip source any destinatio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2]rule permit tcp source 202.39.2.3 0 destination 202.38.160.1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95280" y="979200"/>
            <a:ext cx="8353440" cy="35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acl-102]rule permit tcp source any destination 202.38.160.1 0 destination-port greater-than 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Ethernet0]firewall packet-filter 101 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Serial0]firewall packet-filter 102 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Serial0]nat outbound 101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Serial0]nat server global 202.38.160.1 inside 129.38.1.1 ftp t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Serial0]nat server global 202.38.160.1 inside 129.38.1.2 telnet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[Quidway-Serial0]nat server global 202.38.160.1 inside 129.38.1.3 www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300720" y="2565360"/>
            <a:ext cx="2664000" cy="194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3573360"/>
            <a:ext cx="18730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包过滤技术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39152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路由器需要转发的数据包，先获取包头信息，然后和设定的规则进行比较，根据比较的结果对数据包进行转发或者丢弃。而实现包过滤的核心技术是访问控制列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459160" y="400212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773520" y="3646440"/>
            <a:ext cx="366840" cy="127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914400" cy="1066680"/>
          </a:xfrm>
          <a:prstGeom prst="rect">
            <a:avLst/>
          </a:prstGeom>
          <a:ln w="0">
            <a:noFill/>
          </a:ln>
        </p:spPr>
      </p:pic>
      <p:cxnSp>
        <p:nvCxnSpPr>
          <p:cNvPr id="233" name=""/>
          <p:cNvCxnSpPr>
            <a:stCxn id="232" idx="3"/>
            <a:endCxn id="230" idx="1"/>
          </p:cNvCxnSpPr>
          <p:nvPr/>
        </p:nvCxnSpPr>
        <p:spPr>
          <a:xfrm>
            <a:off x="1598760" y="4322520"/>
            <a:ext cx="861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4" name=""/>
          <p:cNvGrpSpPr/>
          <p:nvPr/>
        </p:nvGrpSpPr>
        <p:grpSpPr>
          <a:xfrm>
            <a:off x="1403280" y="4870440"/>
            <a:ext cx="661680" cy="738000"/>
            <a:chOff x="1403280" y="4870440"/>
            <a:chExt cx="661680" cy="738000"/>
          </a:xfrm>
        </p:grpSpPr>
        <p:pic>
          <p:nvPicPr>
            <p:cNvPr id="235" name="" descr=""/>
            <p:cNvPicPr/>
            <p:nvPr/>
          </p:nvPicPr>
          <p:blipFill>
            <a:blip r:embed="rId4"/>
            <a:stretch/>
          </p:blipFill>
          <p:spPr>
            <a:xfrm>
              <a:off x="1625040" y="4870440"/>
              <a:ext cx="43992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1403280" y="5206320"/>
              <a:ext cx="39672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 flipV="1">
            <a:off x="1835280" y="4293720"/>
            <a:ext cx="0" cy="576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72000" y="3933720"/>
            <a:ext cx="1752480" cy="956880"/>
            <a:chOff x="4572000" y="3933720"/>
            <a:chExt cx="1752480" cy="956880"/>
          </a:xfrm>
        </p:grpSpPr>
        <p:sp>
          <p:nvSpPr>
            <p:cNvPr id="239" name=""/>
            <p:cNvSpPr/>
            <p:nvPr/>
          </p:nvSpPr>
          <p:spPr>
            <a:xfrm>
              <a:off x="4572000" y="4083840"/>
              <a:ext cx="1752480" cy="8067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6"/>
            <a:stretch/>
          </p:blipFill>
          <p:spPr>
            <a:xfrm>
              <a:off x="4622040" y="3933720"/>
              <a:ext cx="1425600" cy="70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6300720" y="3141720"/>
            <a:ext cx="74448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7956720" y="3789360"/>
          <a:ext cx="792000" cy="54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56720" y="3789360"/>
                    <a:ext cx="7920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44" name=""/>
          <p:cNvCxnSpPr>
            <a:stCxn id="241" idx="3"/>
          </p:cNvCxnSpPr>
          <p:nvPr/>
        </p:nvCxnSpPr>
        <p:spPr>
          <a:xfrm flipV="1">
            <a:off x="7044840" y="3428640"/>
            <a:ext cx="1777320" cy="4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5" name=""/>
          <p:cNvCxnSpPr/>
          <p:nvPr/>
        </p:nvCxnSpPr>
        <p:spPr>
          <a:xfrm flipH="1" flipV="1">
            <a:off x="8316360" y="3428280"/>
            <a:ext cx="37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7164360" y="3789360"/>
            <a:ext cx="544680" cy="558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7596360" y="2637000"/>
            <a:ext cx="529920" cy="574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V="1">
            <a:off x="7451640" y="3500280"/>
            <a:ext cx="0" cy="3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2000" y="321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2"/>
          <a:stretch/>
        </p:blipFill>
        <p:spPr>
          <a:xfrm>
            <a:off x="6516720" y="5086440"/>
            <a:ext cx="838080" cy="717480"/>
          </a:xfrm>
          <a:prstGeom prst="rect">
            <a:avLst/>
          </a:prstGeom>
          <a:ln w="0">
            <a:noFill/>
          </a:ln>
        </p:spPr>
      </p:pic>
      <p:cxnSp>
        <p:nvCxnSpPr>
          <p:cNvPr id="251" name=""/>
          <p:cNvCxnSpPr>
            <a:stCxn id="241" idx="1"/>
            <a:endCxn id="240" idx="0"/>
          </p:cNvCxnSpPr>
          <p:nvPr/>
        </p:nvCxnSpPr>
        <p:spPr>
          <a:xfrm flipH="1">
            <a:off x="5334840" y="3468600"/>
            <a:ext cx="965880" cy="465840"/>
          </a:xfrm>
          <a:prstGeom prst="straightConnector1">
            <a:avLst/>
          </a:prstGeom>
          <a:ln w="22320">
            <a:solidFill>
              <a:srgbClr val="3333cc"/>
            </a:solidFill>
            <a:miter/>
          </a:ln>
        </p:spPr>
      </p:cxnSp>
      <p:cxnSp>
        <p:nvCxnSpPr>
          <p:cNvPr id="252" name=""/>
          <p:cNvCxnSpPr>
            <a:stCxn id="230" idx="3"/>
            <a:endCxn id="231" idx="1"/>
          </p:cNvCxnSpPr>
          <p:nvPr/>
        </p:nvCxnSpPr>
        <p:spPr>
          <a:xfrm flipV="1">
            <a:off x="3203280" y="4284000"/>
            <a:ext cx="570600" cy="45000"/>
          </a:xfrm>
          <a:prstGeom prst="straightConnector1">
            <a:avLst/>
          </a:prstGeom>
          <a:ln w="22320">
            <a:solidFill>
              <a:srgbClr val="3333cc"/>
            </a:solidFill>
            <a:miter/>
          </a:ln>
        </p:spPr>
      </p:cxnSp>
      <p:cxnSp>
        <p:nvCxnSpPr>
          <p:cNvPr id="253" name=""/>
          <p:cNvCxnSpPr>
            <a:stCxn id="231" idx="3"/>
            <a:endCxn id="240" idx="1"/>
          </p:cNvCxnSpPr>
          <p:nvPr/>
        </p:nvCxnSpPr>
        <p:spPr>
          <a:xfrm>
            <a:off x="4140360" y="4284360"/>
            <a:ext cx="483120" cy="1080"/>
          </a:xfrm>
          <a:prstGeom prst="straightConnector1">
            <a:avLst/>
          </a:prstGeom>
          <a:ln w="22320">
            <a:solidFill>
              <a:srgbClr val="3333cc"/>
            </a:solidFill>
            <a:miter/>
          </a:ln>
        </p:spPr>
      </p:cxnSp>
      <p:cxnSp>
        <p:nvCxnSpPr>
          <p:cNvPr id="254" name=""/>
          <p:cNvCxnSpPr>
            <a:endCxn id="235" idx="3"/>
          </p:cNvCxnSpPr>
          <p:nvPr/>
        </p:nvCxnSpPr>
        <p:spPr>
          <a:xfrm flipH="1">
            <a:off x="2064600" y="4293720"/>
            <a:ext cx="1708920" cy="926280"/>
          </a:xfrm>
          <a:prstGeom prst="straightConnector1">
            <a:avLst/>
          </a:prstGeom>
          <a:ln w="22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0" idx="0"/>
            <a:endCxn id="240" idx="2"/>
          </p:cNvCxnSpPr>
          <p:nvPr/>
        </p:nvCxnSpPr>
        <p:spPr>
          <a:xfrm flipV="1" rot="16200000">
            <a:off x="5909400" y="4060080"/>
            <a:ext cx="451800" cy="160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2124000" y="4354560"/>
            <a:ext cx="2735280" cy="1019160"/>
          </a:xfrm>
          <a:custGeom>
            <a:avLst/>
            <a:gdLst/>
            <a:ahLst/>
            <a:rect l="l" t="t" r="r" b="b"/>
            <a:pathLst>
              <a:path w="1723" h="642">
                <a:moveTo>
                  <a:pt x="1723" y="52"/>
                </a:moveTo>
                <a:cubicBezTo>
                  <a:pt x="1572" y="26"/>
                  <a:pt x="1421" y="0"/>
                  <a:pt x="1134" y="98"/>
                </a:cubicBezTo>
                <a:cubicBezTo>
                  <a:pt x="847" y="196"/>
                  <a:pt x="423" y="419"/>
                  <a:pt x="0" y="64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11120" y="40035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539640" y="5013360"/>
            <a:ext cx="544680" cy="558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5640" y="43657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2960" y="5641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司总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2960" y="315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网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084720" y="4726080"/>
          <a:ext cx="409680" cy="511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84720" y="4726080"/>
                    <a:ext cx="4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987640" y="4654440"/>
          <a:ext cx="409680" cy="511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4654440"/>
                    <a:ext cx="4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542280" y="5823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授权用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24720" y="4527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办事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18960" y="1952280"/>
            <a:ext cx="65530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过滤技术的基本规则和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和扩展访问控制列表的配置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用于防火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的基本概念和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的配置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652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655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访问控制列表的作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可以用于防火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可以用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对数据流量进行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访问控制列表还可用来规定触发拨号的条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还可以用于地址转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配置路由策略时，可以利用访问控制列表来作路由信息的过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访问控制列表是什么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buClr>
                <a:srgbClr val="6181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包如下图所示（图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承载的上层协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U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53880" y="2852640"/>
            <a:ext cx="8321760" cy="3406680"/>
            <a:chOff x="353880" y="2852640"/>
            <a:chExt cx="8321760" cy="3406680"/>
          </a:xfrm>
        </p:grpSpPr>
        <p:grpSp>
          <p:nvGrpSpPr>
            <p:cNvPr id="273" name=""/>
            <p:cNvGrpSpPr/>
            <p:nvPr/>
          </p:nvGrpSpPr>
          <p:grpSpPr>
            <a:xfrm>
              <a:off x="847800" y="2884320"/>
              <a:ext cx="1789200" cy="604800"/>
              <a:chOff x="847800" y="2884320"/>
              <a:chExt cx="1789200" cy="604800"/>
            </a:xfrm>
          </p:grpSpPr>
          <p:sp>
            <p:nvSpPr>
              <p:cNvPr id="274" name=""/>
              <p:cNvSpPr/>
              <p:nvPr/>
            </p:nvSpPr>
            <p:spPr>
              <a:xfrm>
                <a:off x="847800" y="2884320"/>
                <a:ext cx="1789200" cy="604800"/>
              </a:xfrm>
              <a:custGeom>
                <a:avLst/>
                <a:gdLst/>
                <a:ahLst/>
                <a:rect l="l" t="t" r="r" b="b"/>
                <a:pathLst>
                  <a:path w="1239" h="432">
                    <a:moveTo>
                      <a:pt x="0" y="431"/>
                    </a:moveTo>
                    <a:lnTo>
                      <a:pt x="1238" y="431"/>
                    </a:lnTo>
                    <a:lnTo>
                      <a:pt x="1238" y="0"/>
                    </a:lnTo>
                    <a:lnTo>
                      <a:pt x="0" y="0"/>
                    </a:lnTo>
                    <a:lnTo>
                      <a:pt x="0" y="431"/>
                    </a:lnTo>
                    <a:lnTo>
                      <a:pt x="0" y="431"/>
                    </a:lnTo>
                  </a:path>
                </a:pathLst>
              </a:custGeom>
              <a:solidFill>
                <a:srgbClr val="e8e0ff"/>
              </a:solidFill>
              <a:ln w="18360">
                <a:solidFill>
                  <a:srgbClr val="c0c0c0"/>
                </a:solidFill>
                <a:round/>
              </a:ln>
              <a:effectLst>
                <a:outerShdw dist="104368" dir="189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13760" y="2973600"/>
                <a:ext cx="152784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报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793960" y="2876400"/>
              <a:ext cx="2055960" cy="612720"/>
              <a:chOff x="2793960" y="2876400"/>
              <a:chExt cx="2055960" cy="61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2793960" y="2876400"/>
                <a:ext cx="2055960" cy="612720"/>
              </a:xfrm>
              <a:custGeom>
                <a:avLst/>
                <a:gdLst/>
                <a:ahLst/>
                <a:rect l="l" t="t" r="r" b="b"/>
                <a:pathLst>
                  <a:path w="1425" h="438">
                    <a:moveTo>
                      <a:pt x="0" y="437"/>
                    </a:moveTo>
                    <a:lnTo>
                      <a:pt x="1424" y="437"/>
                    </a:lnTo>
                    <a:lnTo>
                      <a:pt x="1424" y="0"/>
                    </a:lnTo>
                    <a:lnTo>
                      <a:pt x="0" y="0"/>
                    </a:lnTo>
                    <a:lnTo>
                      <a:pt x="0" y="437"/>
                    </a:lnTo>
                    <a:lnTo>
                      <a:pt x="0" y="437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c0c0c0"/>
                </a:solidFill>
                <a:round/>
              </a:ln>
              <a:effectLst>
                <a:outerShdw dist="104368" dir="189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85480" y="2967120"/>
                <a:ext cx="17546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TCP/UDP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报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964040" y="2852640"/>
              <a:ext cx="3416400" cy="660240"/>
              <a:chOff x="4964040" y="2852640"/>
              <a:chExt cx="3416400" cy="660240"/>
            </a:xfrm>
          </p:grpSpPr>
          <p:sp>
            <p:nvSpPr>
              <p:cNvPr id="280" name=""/>
              <p:cNvSpPr/>
              <p:nvPr/>
            </p:nvSpPr>
            <p:spPr>
              <a:xfrm>
                <a:off x="4964040" y="2852640"/>
                <a:ext cx="3416400" cy="660240"/>
              </a:xfrm>
              <a:custGeom>
                <a:avLst/>
                <a:gdLst/>
                <a:ahLst/>
                <a:rect l="l" t="t" r="r" b="b"/>
                <a:pathLst>
                  <a:path w="2367" h="471">
                    <a:moveTo>
                      <a:pt x="0" y="470"/>
                    </a:moveTo>
                    <a:lnTo>
                      <a:pt x="2366" y="470"/>
                    </a:lnTo>
                    <a:lnTo>
                      <a:pt x="2366" y="0"/>
                    </a:lnTo>
                    <a:lnTo>
                      <a:pt x="0" y="0"/>
                    </a:lnTo>
                    <a:lnTo>
                      <a:pt x="0" y="470"/>
                    </a:lnTo>
                    <a:lnTo>
                      <a:pt x="0" y="470"/>
                    </a:lnTo>
                  </a:path>
                </a:pathLst>
              </a:custGeom>
              <a:solidFill>
                <a:srgbClr val="f1f180"/>
              </a:solidFill>
              <a:ln w="18360">
                <a:solidFill>
                  <a:srgbClr val="c0c0c0"/>
                </a:solidFill>
                <a:round/>
              </a:ln>
              <a:effectLst>
                <a:outerShdw dist="104368" dir="189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81200" y="2950560"/>
                <a:ext cx="2916720" cy="48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53880" y="3584520"/>
              <a:ext cx="2095560" cy="2309760"/>
              <a:chOff x="353880" y="3584520"/>
              <a:chExt cx="2095560" cy="2309760"/>
            </a:xfrm>
          </p:grpSpPr>
          <p:sp>
            <p:nvSpPr>
              <p:cNvPr id="283" name=""/>
              <p:cNvSpPr/>
              <p:nvPr/>
            </p:nvSpPr>
            <p:spPr>
              <a:xfrm>
                <a:off x="353880" y="3584520"/>
                <a:ext cx="2095560" cy="2309760"/>
              </a:xfrm>
              <a:custGeom>
                <a:avLst/>
                <a:gdLst/>
                <a:ahLst/>
                <a:rect l="l" t="t" r="r" b="b"/>
                <a:pathLst>
                  <a:path w="1452" h="1649">
                    <a:moveTo>
                      <a:pt x="0" y="1648"/>
                    </a:moveTo>
                    <a:lnTo>
                      <a:pt x="1451" y="1648"/>
                    </a:lnTo>
                    <a:lnTo>
                      <a:pt x="1451" y="441"/>
                    </a:lnTo>
                    <a:lnTo>
                      <a:pt x="800" y="441"/>
                    </a:lnTo>
                    <a:lnTo>
                      <a:pt x="800" y="201"/>
                    </a:lnTo>
                    <a:lnTo>
                      <a:pt x="871" y="201"/>
                    </a:lnTo>
                    <a:lnTo>
                      <a:pt x="722" y="0"/>
                    </a:lnTo>
                    <a:lnTo>
                      <a:pt x="576" y="201"/>
                    </a:lnTo>
                    <a:lnTo>
                      <a:pt x="645" y="201"/>
                    </a:lnTo>
                    <a:lnTo>
                      <a:pt x="645" y="441"/>
                    </a:lnTo>
                    <a:lnTo>
                      <a:pt x="0" y="441"/>
                    </a:lnTo>
                    <a:lnTo>
                      <a:pt x="0" y="1648"/>
                    </a:lnTo>
                    <a:lnTo>
                      <a:pt x="0" y="1648"/>
                    </a:lnTo>
                  </a:path>
                </a:pathLst>
              </a:custGeom>
              <a:solidFill>
                <a:srgbClr val="e0ffd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6280" y="4312800"/>
                <a:ext cx="1961280" cy="13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协议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源地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目的地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011400" y="3616200"/>
              <a:ext cx="1386000" cy="2154240"/>
              <a:chOff x="3011400" y="3616200"/>
              <a:chExt cx="1386000" cy="2154240"/>
            </a:xfrm>
          </p:grpSpPr>
          <p:sp>
            <p:nvSpPr>
              <p:cNvPr id="286" name=""/>
              <p:cNvSpPr/>
              <p:nvPr/>
            </p:nvSpPr>
            <p:spPr>
              <a:xfrm>
                <a:off x="3011400" y="3616200"/>
                <a:ext cx="1386000" cy="2154240"/>
              </a:xfrm>
              <a:custGeom>
                <a:avLst/>
                <a:gdLst/>
                <a:ahLst/>
                <a:rect l="l" t="t" r="r" b="b"/>
                <a:pathLst>
                  <a:path w="960" h="1538">
                    <a:moveTo>
                      <a:pt x="0" y="1537"/>
                    </a:moveTo>
                    <a:lnTo>
                      <a:pt x="959" y="1537"/>
                    </a:lnTo>
                    <a:lnTo>
                      <a:pt x="959" y="412"/>
                    </a:lnTo>
                    <a:lnTo>
                      <a:pt x="528" y="412"/>
                    </a:lnTo>
                    <a:lnTo>
                      <a:pt x="528" y="187"/>
                    </a:lnTo>
                    <a:lnTo>
                      <a:pt x="576" y="187"/>
                    </a:lnTo>
                    <a:lnTo>
                      <a:pt x="477" y="0"/>
                    </a:lnTo>
                    <a:lnTo>
                      <a:pt x="381" y="187"/>
                    </a:lnTo>
                    <a:lnTo>
                      <a:pt x="426" y="187"/>
                    </a:lnTo>
                    <a:lnTo>
                      <a:pt x="426" y="412"/>
                    </a:lnTo>
                    <a:lnTo>
                      <a:pt x="0" y="412"/>
                    </a:lnTo>
                    <a:lnTo>
                      <a:pt x="0" y="1537"/>
                    </a:lnTo>
                    <a:lnTo>
                      <a:pt x="0" y="1537"/>
                    </a:lnTo>
                  </a:path>
                </a:pathLst>
              </a:custGeom>
              <a:solidFill>
                <a:srgbClr val="e0ffd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93480" y="4295520"/>
                <a:ext cx="1295280" cy="12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源端口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目的端口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743360" y="3627360"/>
              <a:ext cx="3932280" cy="2631960"/>
              <a:chOff x="4743360" y="3627360"/>
              <a:chExt cx="3932280" cy="2631960"/>
            </a:xfrm>
          </p:grpSpPr>
          <p:sp>
            <p:nvSpPr>
              <p:cNvPr id="289" name=""/>
              <p:cNvSpPr/>
              <p:nvPr/>
            </p:nvSpPr>
            <p:spPr>
              <a:xfrm>
                <a:off x="4743360" y="3627360"/>
                <a:ext cx="3932280" cy="2631960"/>
              </a:xfrm>
              <a:custGeom>
                <a:avLst/>
                <a:gdLst/>
                <a:ahLst/>
                <a:rect l="l" t="t" r="r" b="b"/>
                <a:pathLst>
                  <a:path w="2725" h="1880">
                    <a:moveTo>
                      <a:pt x="256" y="488"/>
                    </a:moveTo>
                    <a:lnTo>
                      <a:pt x="207" y="504"/>
                    </a:lnTo>
                    <a:lnTo>
                      <a:pt x="163" y="527"/>
                    </a:lnTo>
                    <a:lnTo>
                      <a:pt x="125" y="556"/>
                    </a:lnTo>
                    <a:lnTo>
                      <a:pt x="92" y="589"/>
                    </a:lnTo>
                    <a:lnTo>
                      <a:pt x="63" y="629"/>
                    </a:lnTo>
                    <a:lnTo>
                      <a:pt x="40" y="670"/>
                    </a:lnTo>
                    <a:lnTo>
                      <a:pt x="22" y="716"/>
                    </a:lnTo>
                    <a:lnTo>
                      <a:pt x="9" y="764"/>
                    </a:lnTo>
                    <a:lnTo>
                      <a:pt x="2" y="814"/>
                    </a:lnTo>
                    <a:lnTo>
                      <a:pt x="0" y="865"/>
                    </a:lnTo>
                    <a:lnTo>
                      <a:pt x="4" y="916"/>
                    </a:lnTo>
                    <a:lnTo>
                      <a:pt x="14" y="966"/>
                    </a:lnTo>
                    <a:lnTo>
                      <a:pt x="30" y="1017"/>
                    </a:lnTo>
                    <a:lnTo>
                      <a:pt x="52" y="1064"/>
                    </a:lnTo>
                    <a:lnTo>
                      <a:pt x="80" y="1110"/>
                    </a:lnTo>
                    <a:lnTo>
                      <a:pt x="114" y="1151"/>
                    </a:lnTo>
                    <a:lnTo>
                      <a:pt x="92" y="1219"/>
                    </a:lnTo>
                    <a:lnTo>
                      <a:pt x="82" y="1285"/>
                    </a:lnTo>
                    <a:lnTo>
                      <a:pt x="83" y="1349"/>
                    </a:lnTo>
                    <a:lnTo>
                      <a:pt x="94" y="1409"/>
                    </a:lnTo>
                    <a:lnTo>
                      <a:pt x="114" y="1465"/>
                    </a:lnTo>
                    <a:lnTo>
                      <a:pt x="142" y="1516"/>
                    </a:lnTo>
                    <a:lnTo>
                      <a:pt x="177" y="1562"/>
                    </a:lnTo>
                    <a:lnTo>
                      <a:pt x="218" y="1601"/>
                    </a:lnTo>
                    <a:lnTo>
                      <a:pt x="262" y="1632"/>
                    </a:lnTo>
                    <a:lnTo>
                      <a:pt x="312" y="1656"/>
                    </a:lnTo>
                    <a:lnTo>
                      <a:pt x="364" y="1671"/>
                    </a:lnTo>
                    <a:lnTo>
                      <a:pt x="418" y="1674"/>
                    </a:lnTo>
                    <a:lnTo>
                      <a:pt x="473" y="1668"/>
                    </a:lnTo>
                    <a:lnTo>
                      <a:pt x="527" y="1649"/>
                    </a:lnTo>
                    <a:lnTo>
                      <a:pt x="580" y="1619"/>
                    </a:lnTo>
                    <a:lnTo>
                      <a:pt x="633" y="1574"/>
                    </a:lnTo>
                    <a:lnTo>
                      <a:pt x="668" y="1611"/>
                    </a:lnTo>
                    <a:lnTo>
                      <a:pt x="705" y="1642"/>
                    </a:lnTo>
                    <a:lnTo>
                      <a:pt x="744" y="1670"/>
                    </a:lnTo>
                    <a:lnTo>
                      <a:pt x="785" y="1694"/>
                    </a:lnTo>
                    <a:lnTo>
                      <a:pt x="827" y="1715"/>
                    </a:lnTo>
                    <a:lnTo>
                      <a:pt x="871" y="1732"/>
                    </a:lnTo>
                    <a:lnTo>
                      <a:pt x="914" y="1745"/>
                    </a:lnTo>
                    <a:lnTo>
                      <a:pt x="960" y="1754"/>
                    </a:lnTo>
                    <a:lnTo>
                      <a:pt x="1004" y="1761"/>
                    </a:lnTo>
                    <a:lnTo>
                      <a:pt x="1050" y="1763"/>
                    </a:lnTo>
                    <a:lnTo>
                      <a:pt x="1095" y="1761"/>
                    </a:lnTo>
                    <a:lnTo>
                      <a:pt x="1141" y="1755"/>
                    </a:lnTo>
                    <a:lnTo>
                      <a:pt x="1185" y="1746"/>
                    </a:lnTo>
                    <a:lnTo>
                      <a:pt x="1231" y="1732"/>
                    </a:lnTo>
                    <a:lnTo>
                      <a:pt x="1274" y="1714"/>
                    </a:lnTo>
                    <a:lnTo>
                      <a:pt x="1319" y="1692"/>
                    </a:lnTo>
                    <a:lnTo>
                      <a:pt x="1374" y="1741"/>
                    </a:lnTo>
                    <a:lnTo>
                      <a:pt x="1432" y="1781"/>
                    </a:lnTo>
                    <a:lnTo>
                      <a:pt x="1492" y="1816"/>
                    </a:lnTo>
                    <a:lnTo>
                      <a:pt x="1556" y="1841"/>
                    </a:lnTo>
                    <a:lnTo>
                      <a:pt x="1619" y="1861"/>
                    </a:lnTo>
                    <a:lnTo>
                      <a:pt x="1685" y="1873"/>
                    </a:lnTo>
                    <a:lnTo>
                      <a:pt x="1751" y="1879"/>
                    </a:lnTo>
                    <a:lnTo>
                      <a:pt x="1818" y="1877"/>
                    </a:lnTo>
                    <a:lnTo>
                      <a:pt x="1884" y="1870"/>
                    </a:lnTo>
                    <a:lnTo>
                      <a:pt x="1949" y="1855"/>
                    </a:lnTo>
                    <a:lnTo>
                      <a:pt x="2013" y="1834"/>
                    </a:lnTo>
                    <a:lnTo>
                      <a:pt x="2075" y="1805"/>
                    </a:lnTo>
                    <a:lnTo>
                      <a:pt x="2135" y="1771"/>
                    </a:lnTo>
                    <a:lnTo>
                      <a:pt x="2193" y="1729"/>
                    </a:lnTo>
                    <a:lnTo>
                      <a:pt x="2247" y="1682"/>
                    </a:lnTo>
                    <a:lnTo>
                      <a:pt x="2299" y="1628"/>
                    </a:lnTo>
                    <a:lnTo>
                      <a:pt x="2367" y="1637"/>
                    </a:lnTo>
                    <a:lnTo>
                      <a:pt x="2431" y="1632"/>
                    </a:lnTo>
                    <a:lnTo>
                      <a:pt x="2491" y="1616"/>
                    </a:lnTo>
                    <a:lnTo>
                      <a:pt x="2545" y="1587"/>
                    </a:lnTo>
                    <a:lnTo>
                      <a:pt x="2593" y="1550"/>
                    </a:lnTo>
                    <a:lnTo>
                      <a:pt x="2635" y="1504"/>
                    </a:lnTo>
                    <a:lnTo>
                      <a:pt x="2669" y="1452"/>
                    </a:lnTo>
                    <a:lnTo>
                      <a:pt x="2696" y="1394"/>
                    </a:lnTo>
                    <a:lnTo>
                      <a:pt x="2714" y="1333"/>
                    </a:lnTo>
                    <a:lnTo>
                      <a:pt x="2724" y="1269"/>
                    </a:lnTo>
                    <a:lnTo>
                      <a:pt x="2724" y="1203"/>
                    </a:lnTo>
                    <a:lnTo>
                      <a:pt x="2716" y="1138"/>
                    </a:lnTo>
                    <a:lnTo>
                      <a:pt x="2696" y="1075"/>
                    </a:lnTo>
                    <a:lnTo>
                      <a:pt x="2667" y="1014"/>
                    </a:lnTo>
                    <a:lnTo>
                      <a:pt x="2626" y="957"/>
                    </a:lnTo>
                    <a:lnTo>
                      <a:pt x="2574" y="906"/>
                    </a:lnTo>
                    <a:lnTo>
                      <a:pt x="2605" y="872"/>
                    </a:lnTo>
                    <a:lnTo>
                      <a:pt x="2629" y="834"/>
                    </a:lnTo>
                    <a:lnTo>
                      <a:pt x="2644" y="795"/>
                    </a:lnTo>
                    <a:lnTo>
                      <a:pt x="2653" y="754"/>
                    </a:lnTo>
                    <a:lnTo>
                      <a:pt x="2654" y="713"/>
                    </a:lnTo>
                    <a:lnTo>
                      <a:pt x="2649" y="672"/>
                    </a:lnTo>
                    <a:lnTo>
                      <a:pt x="2639" y="633"/>
                    </a:lnTo>
                    <a:lnTo>
                      <a:pt x="2623" y="596"/>
                    </a:lnTo>
                    <a:lnTo>
                      <a:pt x="2602" y="563"/>
                    </a:lnTo>
                    <a:lnTo>
                      <a:pt x="2576" y="534"/>
                    </a:lnTo>
                    <a:lnTo>
                      <a:pt x="2547" y="509"/>
                    </a:lnTo>
                    <a:lnTo>
                      <a:pt x="2514" y="490"/>
                    </a:lnTo>
                    <a:lnTo>
                      <a:pt x="2477" y="479"/>
                    </a:lnTo>
                    <a:lnTo>
                      <a:pt x="2438" y="474"/>
                    </a:lnTo>
                    <a:lnTo>
                      <a:pt x="2397" y="479"/>
                    </a:lnTo>
                    <a:lnTo>
                      <a:pt x="2354" y="492"/>
                    </a:lnTo>
                    <a:lnTo>
                      <a:pt x="2325" y="454"/>
                    </a:lnTo>
                    <a:lnTo>
                      <a:pt x="2294" y="418"/>
                    </a:lnTo>
                    <a:lnTo>
                      <a:pt x="2259" y="388"/>
                    </a:lnTo>
                    <a:lnTo>
                      <a:pt x="2224" y="358"/>
                    </a:lnTo>
                    <a:lnTo>
                      <a:pt x="2186" y="334"/>
                    </a:lnTo>
                    <a:lnTo>
                      <a:pt x="2147" y="312"/>
                    </a:lnTo>
                    <a:lnTo>
                      <a:pt x="2106" y="294"/>
                    </a:lnTo>
                    <a:lnTo>
                      <a:pt x="2065" y="279"/>
                    </a:lnTo>
                    <a:lnTo>
                      <a:pt x="2021" y="270"/>
                    </a:lnTo>
                    <a:lnTo>
                      <a:pt x="1978" y="262"/>
                    </a:lnTo>
                    <a:lnTo>
                      <a:pt x="1935" y="259"/>
                    </a:lnTo>
                    <a:lnTo>
                      <a:pt x="1891" y="259"/>
                    </a:lnTo>
                    <a:lnTo>
                      <a:pt x="1848" y="265"/>
                    </a:lnTo>
                    <a:lnTo>
                      <a:pt x="1804" y="272"/>
                    </a:lnTo>
                    <a:lnTo>
                      <a:pt x="1761" y="285"/>
                    </a:lnTo>
                    <a:lnTo>
                      <a:pt x="1719" y="301"/>
                    </a:lnTo>
                    <a:lnTo>
                      <a:pt x="1682" y="231"/>
                    </a:lnTo>
                    <a:lnTo>
                      <a:pt x="1639" y="170"/>
                    </a:lnTo>
                    <a:lnTo>
                      <a:pt x="1589" y="119"/>
                    </a:lnTo>
                    <a:lnTo>
                      <a:pt x="1536" y="75"/>
                    </a:lnTo>
                    <a:lnTo>
                      <a:pt x="1477" y="44"/>
                    </a:lnTo>
                    <a:lnTo>
                      <a:pt x="1416" y="19"/>
                    </a:lnTo>
                    <a:lnTo>
                      <a:pt x="1352" y="6"/>
                    </a:lnTo>
                    <a:lnTo>
                      <a:pt x="1289" y="0"/>
                    </a:lnTo>
                    <a:lnTo>
                      <a:pt x="1224" y="6"/>
                    </a:lnTo>
                    <a:lnTo>
                      <a:pt x="1161" y="19"/>
                    </a:lnTo>
                    <a:lnTo>
                      <a:pt x="1099" y="44"/>
                    </a:lnTo>
                    <a:lnTo>
                      <a:pt x="1042" y="75"/>
                    </a:lnTo>
                    <a:lnTo>
                      <a:pt x="987" y="119"/>
                    </a:lnTo>
                    <a:lnTo>
                      <a:pt x="938" y="170"/>
                    </a:lnTo>
                    <a:lnTo>
                      <a:pt x="895" y="231"/>
                    </a:lnTo>
                    <a:lnTo>
                      <a:pt x="860" y="301"/>
                    </a:lnTo>
                    <a:lnTo>
                      <a:pt x="832" y="252"/>
                    </a:lnTo>
                    <a:lnTo>
                      <a:pt x="799" y="213"/>
                    </a:lnTo>
                    <a:lnTo>
                      <a:pt x="761" y="183"/>
                    </a:lnTo>
                    <a:lnTo>
                      <a:pt x="719" y="162"/>
                    </a:lnTo>
                    <a:lnTo>
                      <a:pt x="674" y="151"/>
                    </a:lnTo>
                    <a:lnTo>
                      <a:pt x="627" y="147"/>
                    </a:lnTo>
                    <a:lnTo>
                      <a:pt x="579" y="153"/>
                    </a:lnTo>
                    <a:lnTo>
                      <a:pt x="532" y="164"/>
                    </a:lnTo>
                    <a:lnTo>
                      <a:pt x="485" y="183"/>
                    </a:lnTo>
                    <a:lnTo>
                      <a:pt x="441" y="210"/>
                    </a:lnTo>
                    <a:lnTo>
                      <a:pt x="399" y="244"/>
                    </a:lnTo>
                    <a:lnTo>
                      <a:pt x="363" y="282"/>
                    </a:lnTo>
                    <a:lnTo>
                      <a:pt x="331" y="327"/>
                    </a:lnTo>
                    <a:lnTo>
                      <a:pt x="306" y="377"/>
                    </a:lnTo>
                    <a:lnTo>
                      <a:pt x="288" y="431"/>
                    </a:lnTo>
                    <a:lnTo>
                      <a:pt x="279" y="489"/>
                    </a:lnTo>
                    <a:lnTo>
                      <a:pt x="278" y="489"/>
                    </a:lnTo>
                    <a:lnTo>
                      <a:pt x="277" y="489"/>
                    </a:lnTo>
                    <a:lnTo>
                      <a:pt x="275" y="489"/>
                    </a:lnTo>
                    <a:lnTo>
                      <a:pt x="275" y="489"/>
                    </a:lnTo>
                    <a:lnTo>
                      <a:pt x="273" y="489"/>
                    </a:lnTo>
                    <a:lnTo>
                      <a:pt x="271" y="489"/>
                    </a:lnTo>
                    <a:lnTo>
                      <a:pt x="269" y="489"/>
                    </a:lnTo>
                    <a:lnTo>
                      <a:pt x="267" y="487"/>
                    </a:lnTo>
                    <a:lnTo>
                      <a:pt x="264" y="487"/>
                    </a:lnTo>
                    <a:lnTo>
                      <a:pt x="262" y="487"/>
                    </a:lnTo>
                    <a:lnTo>
                      <a:pt x="261" y="487"/>
                    </a:lnTo>
                    <a:lnTo>
                      <a:pt x="259" y="487"/>
                    </a:lnTo>
                    <a:lnTo>
                      <a:pt x="257" y="488"/>
                    </a:lnTo>
                    <a:lnTo>
                      <a:pt x="257" y="488"/>
                    </a:lnTo>
                    <a:lnTo>
                      <a:pt x="256" y="488"/>
                    </a:lnTo>
                    <a:lnTo>
                      <a:pt x="256" y="488"/>
                    </a:lnTo>
                    <a:lnTo>
                      <a:pt x="256" y="488"/>
                    </a:lnTo>
                  </a:path>
                </a:pathLst>
              </a:custGeom>
              <a:solidFill>
                <a:srgbClr val="c2e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26840" y="4440600"/>
                <a:ext cx="321732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对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TCP/UDP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来说，这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个元素组成了一个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TCP/UDP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相关，访问控制列表就是利用这些元素定义的规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如何标识访问控制列表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0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数字标识访问控制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数字范围标识访问控制列表的种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42920" y="3973680"/>
            <a:ext cx="7327440" cy="1542960"/>
            <a:chOff x="1042920" y="3973680"/>
            <a:chExt cx="7327440" cy="1542960"/>
          </a:xfrm>
        </p:grpSpPr>
        <p:sp>
          <p:nvSpPr>
            <p:cNvPr id="294" name=""/>
            <p:cNvSpPr/>
            <p:nvPr/>
          </p:nvSpPr>
          <p:spPr>
            <a:xfrm flipV="1">
              <a:off x="1042920" y="3973320"/>
              <a:ext cx="7159320" cy="1542960"/>
            </a:xfrm>
            <a:prstGeom prst="roundRect">
              <a:avLst>
                <a:gd name="adj" fmla="val 0"/>
              </a:avLst>
            </a:prstGeom>
            <a:solidFill>
              <a:srgbClr val="7f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2280" y="3984840"/>
              <a:ext cx="3736440" cy="5684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列表的种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30320" y="3984840"/>
              <a:ext cx="3740040" cy="5684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数字标识的范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2280" y="4572360"/>
              <a:ext cx="3736440" cy="4586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standard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30320" y="4572360"/>
              <a:ext cx="3740040" cy="4586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52280" y="5048280"/>
              <a:ext cx="3736440" cy="45900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extended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30320" y="5048280"/>
              <a:ext cx="3740040" cy="45900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访问控制列表只使用源地址描述数据，表明是允许还是拒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476360" y="2952720"/>
            <a:ext cx="5614560" cy="3068280"/>
            <a:chOff x="1476360" y="2952720"/>
            <a:chExt cx="5614560" cy="3068280"/>
          </a:xfrm>
        </p:grpSpPr>
        <p:grpSp>
          <p:nvGrpSpPr>
            <p:cNvPr id="304" name=""/>
            <p:cNvGrpSpPr/>
            <p:nvPr/>
          </p:nvGrpSpPr>
          <p:grpSpPr>
            <a:xfrm>
              <a:off x="3768480" y="2952720"/>
              <a:ext cx="2228400" cy="1409760"/>
              <a:chOff x="3768480" y="2952720"/>
              <a:chExt cx="2228400" cy="1409760"/>
            </a:xfrm>
          </p:grpSpPr>
          <p:sp>
            <p:nvSpPr>
              <p:cNvPr id="305" name=""/>
              <p:cNvSpPr/>
              <p:nvPr/>
            </p:nvSpPr>
            <p:spPr>
              <a:xfrm>
                <a:off x="3768480" y="2952720"/>
                <a:ext cx="2228400" cy="1409760"/>
              </a:xfrm>
              <a:custGeom>
                <a:avLst/>
                <a:gdLst/>
                <a:ahLst/>
                <a:rect l="l" t="t" r="r" b="b"/>
                <a:pathLst>
                  <a:path w="1545" h="1007">
                    <a:moveTo>
                      <a:pt x="121" y="878"/>
                    </a:moveTo>
                    <a:lnTo>
                      <a:pt x="108" y="877"/>
                    </a:lnTo>
                    <a:lnTo>
                      <a:pt x="97" y="875"/>
                    </a:lnTo>
                    <a:lnTo>
                      <a:pt x="86" y="872"/>
                    </a:lnTo>
                    <a:lnTo>
                      <a:pt x="75" y="869"/>
                    </a:lnTo>
                    <a:lnTo>
                      <a:pt x="65" y="865"/>
                    </a:lnTo>
                    <a:lnTo>
                      <a:pt x="55" y="860"/>
                    </a:lnTo>
                    <a:lnTo>
                      <a:pt x="46" y="854"/>
                    </a:lnTo>
                    <a:lnTo>
                      <a:pt x="38" y="848"/>
                    </a:lnTo>
                    <a:lnTo>
                      <a:pt x="30" y="841"/>
                    </a:lnTo>
                    <a:lnTo>
                      <a:pt x="22" y="834"/>
                    </a:lnTo>
                    <a:lnTo>
                      <a:pt x="16" y="827"/>
                    </a:lnTo>
                    <a:lnTo>
                      <a:pt x="11" y="818"/>
                    </a:lnTo>
                    <a:lnTo>
                      <a:pt x="6" y="811"/>
                    </a:lnTo>
                    <a:lnTo>
                      <a:pt x="3" y="801"/>
                    </a:lnTo>
                    <a:lnTo>
                      <a:pt x="1" y="792"/>
                    </a:lnTo>
                    <a:lnTo>
                      <a:pt x="0" y="783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3" y="78"/>
                    </a:lnTo>
                    <a:lnTo>
                      <a:pt x="6" y="71"/>
                    </a:lnTo>
                    <a:lnTo>
                      <a:pt x="11" y="62"/>
                    </a:lnTo>
                    <a:lnTo>
                      <a:pt x="16" y="54"/>
                    </a:lnTo>
                    <a:lnTo>
                      <a:pt x="22" y="46"/>
                    </a:lnTo>
                    <a:lnTo>
                      <a:pt x="30" y="39"/>
                    </a:lnTo>
                    <a:lnTo>
                      <a:pt x="38" y="32"/>
                    </a:lnTo>
                    <a:lnTo>
                      <a:pt x="46" y="26"/>
                    </a:lnTo>
                    <a:lnTo>
                      <a:pt x="55" y="20"/>
                    </a:lnTo>
                    <a:lnTo>
                      <a:pt x="65" y="16"/>
                    </a:lnTo>
                    <a:lnTo>
                      <a:pt x="75" y="11"/>
                    </a:lnTo>
                    <a:lnTo>
                      <a:pt x="86" y="8"/>
                    </a:lnTo>
                    <a:lnTo>
                      <a:pt x="97" y="4"/>
                    </a:lnTo>
                    <a:lnTo>
                      <a:pt x="108" y="2"/>
                    </a:lnTo>
                    <a:lnTo>
                      <a:pt x="121" y="0"/>
                    </a:lnTo>
                    <a:lnTo>
                      <a:pt x="1424" y="0"/>
                    </a:lnTo>
                    <a:lnTo>
                      <a:pt x="1434" y="2"/>
                    </a:lnTo>
                    <a:lnTo>
                      <a:pt x="1445" y="4"/>
                    </a:lnTo>
                    <a:lnTo>
                      <a:pt x="1456" y="8"/>
                    </a:lnTo>
                    <a:lnTo>
                      <a:pt x="1467" y="11"/>
                    </a:lnTo>
                    <a:lnTo>
                      <a:pt x="1476" y="16"/>
                    </a:lnTo>
                    <a:lnTo>
                      <a:pt x="1486" y="20"/>
                    </a:lnTo>
                    <a:lnTo>
                      <a:pt x="1495" y="26"/>
                    </a:lnTo>
                    <a:lnTo>
                      <a:pt x="1505" y="32"/>
                    </a:lnTo>
                    <a:lnTo>
                      <a:pt x="1512" y="39"/>
                    </a:lnTo>
                    <a:lnTo>
                      <a:pt x="1519" y="46"/>
                    </a:lnTo>
                    <a:lnTo>
                      <a:pt x="1524" y="54"/>
                    </a:lnTo>
                    <a:lnTo>
                      <a:pt x="1531" y="62"/>
                    </a:lnTo>
                    <a:lnTo>
                      <a:pt x="1535" y="71"/>
                    </a:lnTo>
                    <a:lnTo>
                      <a:pt x="1538" y="78"/>
                    </a:lnTo>
                    <a:lnTo>
                      <a:pt x="1541" y="88"/>
                    </a:lnTo>
                    <a:lnTo>
                      <a:pt x="1544" y="95"/>
                    </a:lnTo>
                    <a:lnTo>
                      <a:pt x="1544" y="783"/>
                    </a:lnTo>
                    <a:lnTo>
                      <a:pt x="1541" y="792"/>
                    </a:lnTo>
                    <a:lnTo>
                      <a:pt x="1538" y="801"/>
                    </a:lnTo>
                    <a:lnTo>
                      <a:pt x="1535" y="811"/>
                    </a:lnTo>
                    <a:lnTo>
                      <a:pt x="1531" y="818"/>
                    </a:lnTo>
                    <a:lnTo>
                      <a:pt x="1524" y="827"/>
                    </a:lnTo>
                    <a:lnTo>
                      <a:pt x="1519" y="834"/>
                    </a:lnTo>
                    <a:lnTo>
                      <a:pt x="1512" y="841"/>
                    </a:lnTo>
                    <a:lnTo>
                      <a:pt x="1505" y="848"/>
                    </a:lnTo>
                    <a:lnTo>
                      <a:pt x="1495" y="854"/>
                    </a:lnTo>
                    <a:lnTo>
                      <a:pt x="1486" y="860"/>
                    </a:lnTo>
                    <a:lnTo>
                      <a:pt x="1476" y="865"/>
                    </a:lnTo>
                    <a:lnTo>
                      <a:pt x="1467" y="869"/>
                    </a:lnTo>
                    <a:lnTo>
                      <a:pt x="1456" y="872"/>
                    </a:lnTo>
                    <a:lnTo>
                      <a:pt x="1445" y="875"/>
                    </a:lnTo>
                    <a:lnTo>
                      <a:pt x="1434" y="877"/>
                    </a:lnTo>
                    <a:lnTo>
                      <a:pt x="1424" y="878"/>
                    </a:lnTo>
                    <a:lnTo>
                      <a:pt x="1310" y="878"/>
                    </a:lnTo>
                    <a:lnTo>
                      <a:pt x="1419" y="1006"/>
                    </a:lnTo>
                    <a:lnTo>
                      <a:pt x="1156" y="878"/>
                    </a:lnTo>
                    <a:lnTo>
                      <a:pt x="121" y="878"/>
                    </a:lnTo>
                    <a:lnTo>
                      <a:pt x="121" y="878"/>
                    </a:lnTo>
                  </a:path>
                </a:pathLst>
              </a:custGeom>
              <a:solidFill>
                <a:srgbClr val="c1ffd5"/>
              </a:solidFill>
              <a:ln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49920" y="3088440"/>
                <a:ext cx="1900800" cy="9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2.110.10.0/2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来的数据包可以通过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398840" y="4473720"/>
              <a:ext cx="1590120" cy="0"/>
            </a:xfrm>
            <a:prstGeom prst="line">
              <a:avLst/>
            </a:prstGeom>
            <a:ln w="475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476360" y="4118040"/>
              <a:ext cx="2315880" cy="1888920"/>
              <a:chOff x="1476360" y="4118040"/>
              <a:chExt cx="2315880" cy="1888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476360" y="4118040"/>
                <a:ext cx="2315880" cy="1888920"/>
              </a:xfrm>
              <a:custGeom>
                <a:avLst/>
                <a:gdLst/>
                <a:ahLst/>
                <a:rect l="l" t="t" r="r" b="b"/>
                <a:pathLst>
                  <a:path w="1605" h="1349">
                    <a:moveTo>
                      <a:pt x="1604" y="603"/>
                    </a:moveTo>
                    <a:lnTo>
                      <a:pt x="1601" y="537"/>
                    </a:lnTo>
                    <a:lnTo>
                      <a:pt x="1584" y="459"/>
                    </a:lnTo>
                    <a:lnTo>
                      <a:pt x="1561" y="399"/>
                    </a:lnTo>
                    <a:lnTo>
                      <a:pt x="1534" y="347"/>
                    </a:lnTo>
                    <a:lnTo>
                      <a:pt x="1502" y="302"/>
                    </a:lnTo>
                    <a:lnTo>
                      <a:pt x="1459" y="252"/>
                    </a:lnTo>
                    <a:lnTo>
                      <a:pt x="1405" y="202"/>
                    </a:lnTo>
                    <a:lnTo>
                      <a:pt x="1353" y="162"/>
                    </a:lnTo>
                    <a:lnTo>
                      <a:pt x="1289" y="120"/>
                    </a:lnTo>
                    <a:lnTo>
                      <a:pt x="1227" y="86"/>
                    </a:lnTo>
                    <a:lnTo>
                      <a:pt x="1162" y="61"/>
                    </a:lnTo>
                    <a:lnTo>
                      <a:pt x="1095" y="40"/>
                    </a:lnTo>
                    <a:lnTo>
                      <a:pt x="1026" y="23"/>
                    </a:lnTo>
                    <a:lnTo>
                      <a:pt x="961" y="10"/>
                    </a:lnTo>
                    <a:lnTo>
                      <a:pt x="883" y="4"/>
                    </a:lnTo>
                    <a:lnTo>
                      <a:pt x="796" y="0"/>
                    </a:lnTo>
                    <a:lnTo>
                      <a:pt x="719" y="4"/>
                    </a:lnTo>
                    <a:lnTo>
                      <a:pt x="642" y="12"/>
                    </a:lnTo>
                    <a:lnTo>
                      <a:pt x="583" y="21"/>
                    </a:lnTo>
                    <a:lnTo>
                      <a:pt x="513" y="38"/>
                    </a:lnTo>
                    <a:lnTo>
                      <a:pt x="436" y="61"/>
                    </a:lnTo>
                    <a:lnTo>
                      <a:pt x="376" y="86"/>
                    </a:lnTo>
                    <a:lnTo>
                      <a:pt x="310" y="120"/>
                    </a:lnTo>
                    <a:lnTo>
                      <a:pt x="255" y="156"/>
                    </a:lnTo>
                    <a:lnTo>
                      <a:pt x="203" y="192"/>
                    </a:lnTo>
                    <a:lnTo>
                      <a:pt x="148" y="241"/>
                    </a:lnTo>
                    <a:lnTo>
                      <a:pt x="103" y="287"/>
                    </a:lnTo>
                    <a:lnTo>
                      <a:pt x="64" y="342"/>
                    </a:lnTo>
                    <a:lnTo>
                      <a:pt x="34" y="397"/>
                    </a:lnTo>
                    <a:lnTo>
                      <a:pt x="10" y="464"/>
                    </a:lnTo>
                    <a:lnTo>
                      <a:pt x="0" y="533"/>
                    </a:lnTo>
                    <a:lnTo>
                      <a:pt x="0" y="592"/>
                    </a:lnTo>
                    <a:lnTo>
                      <a:pt x="3" y="654"/>
                    </a:lnTo>
                    <a:lnTo>
                      <a:pt x="24" y="734"/>
                    </a:lnTo>
                    <a:lnTo>
                      <a:pt x="56" y="796"/>
                    </a:lnTo>
                    <a:lnTo>
                      <a:pt x="83" y="841"/>
                    </a:lnTo>
                    <a:lnTo>
                      <a:pt x="113" y="878"/>
                    </a:lnTo>
                    <a:lnTo>
                      <a:pt x="145" y="913"/>
                    </a:lnTo>
                    <a:lnTo>
                      <a:pt x="188" y="954"/>
                    </a:lnTo>
                    <a:lnTo>
                      <a:pt x="230" y="989"/>
                    </a:lnTo>
                    <a:lnTo>
                      <a:pt x="270" y="1017"/>
                    </a:lnTo>
                    <a:lnTo>
                      <a:pt x="324" y="1042"/>
                    </a:lnTo>
                    <a:lnTo>
                      <a:pt x="379" y="1071"/>
                    </a:lnTo>
                    <a:lnTo>
                      <a:pt x="435" y="1094"/>
                    </a:lnTo>
                    <a:lnTo>
                      <a:pt x="506" y="1119"/>
                    </a:lnTo>
                    <a:lnTo>
                      <a:pt x="583" y="1134"/>
                    </a:lnTo>
                    <a:lnTo>
                      <a:pt x="680" y="1148"/>
                    </a:lnTo>
                    <a:lnTo>
                      <a:pt x="776" y="1153"/>
                    </a:lnTo>
                    <a:lnTo>
                      <a:pt x="856" y="1154"/>
                    </a:lnTo>
                    <a:lnTo>
                      <a:pt x="929" y="1149"/>
                    </a:lnTo>
                    <a:lnTo>
                      <a:pt x="1016" y="1131"/>
                    </a:lnTo>
                    <a:lnTo>
                      <a:pt x="1062" y="1119"/>
                    </a:lnTo>
                    <a:lnTo>
                      <a:pt x="1132" y="1099"/>
                    </a:lnTo>
                    <a:lnTo>
                      <a:pt x="1188" y="1079"/>
                    </a:lnTo>
                    <a:lnTo>
                      <a:pt x="1480" y="1348"/>
                    </a:lnTo>
                    <a:lnTo>
                      <a:pt x="1300" y="1029"/>
                    </a:lnTo>
                    <a:lnTo>
                      <a:pt x="1342" y="1002"/>
                    </a:lnTo>
                    <a:lnTo>
                      <a:pt x="1391" y="968"/>
                    </a:lnTo>
                    <a:lnTo>
                      <a:pt x="1436" y="928"/>
                    </a:lnTo>
                    <a:lnTo>
                      <a:pt x="1480" y="883"/>
                    </a:lnTo>
                    <a:lnTo>
                      <a:pt x="1521" y="836"/>
                    </a:lnTo>
                    <a:lnTo>
                      <a:pt x="1546" y="788"/>
                    </a:lnTo>
                    <a:lnTo>
                      <a:pt x="1579" y="723"/>
                    </a:lnTo>
                    <a:lnTo>
                      <a:pt x="1596" y="665"/>
                    </a:lnTo>
                    <a:lnTo>
                      <a:pt x="1604" y="603"/>
                    </a:lnTo>
                    <a:lnTo>
                      <a:pt x="1604" y="603"/>
                    </a:lnTo>
                  </a:path>
                </a:pathLst>
              </a:custGeom>
              <a:solidFill>
                <a:srgbClr val="e0ffbf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33040" y="4423320"/>
                <a:ext cx="1902960" cy="9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192.110.10.0/2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来的数据包不能通过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V="1">
              <a:off x="3546360" y="4636800"/>
              <a:ext cx="2387160" cy="138420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4733640" y="4826160"/>
              <a:ext cx="545760" cy="7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267240" y="4824360"/>
              <a:ext cx="8236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路由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6156000" y="4176720"/>
              <a:ext cx="744480" cy="652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访问控制列表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标准访问列表的命令格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cl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acl-number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[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match-order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auto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|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config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rule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normal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|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pecial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}{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permit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|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deny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} [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ource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 source-addr source-wildcard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|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any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3716280"/>
            <a:ext cx="3529080" cy="1800360"/>
          </a:xfrm>
          <a:prstGeom prst="horizontalScroll">
            <a:avLst>
              <a:gd name="adj" fmla="val 12500"/>
            </a:avLst>
          </a:prstGeom>
          <a:solidFill>
            <a:srgbClr val="a3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怎样利用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地址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反掩码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wildcard-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表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网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940360" y="3573360"/>
            <a:ext cx="2895480" cy="2481120"/>
            <a:chOff x="5940360" y="3573360"/>
            <a:chExt cx="289548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8074080" y="3573360"/>
              <a:ext cx="598320" cy="561960"/>
              <a:chOff x="8074080" y="3573360"/>
              <a:chExt cx="598320" cy="561960"/>
            </a:xfrm>
          </p:grpSpPr>
          <p:sp>
            <p:nvSpPr>
              <p:cNvPr id="320" name=""/>
              <p:cNvSpPr/>
              <p:nvPr/>
            </p:nvSpPr>
            <p:spPr>
              <a:xfrm>
                <a:off x="8208720" y="357336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074080" y="401328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940360" y="3725640"/>
              <a:ext cx="456840" cy="428400"/>
              <a:chOff x="5940360" y="3725640"/>
              <a:chExt cx="456840" cy="428400"/>
            </a:xfrm>
          </p:grpSpPr>
          <p:sp>
            <p:nvSpPr>
              <p:cNvPr id="323" name=""/>
              <p:cNvSpPr/>
              <p:nvPr/>
            </p:nvSpPr>
            <p:spPr>
              <a:xfrm>
                <a:off x="6042960" y="372564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40360" y="406116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235640" y="3573360"/>
              <a:ext cx="456840" cy="428040"/>
              <a:chOff x="7235640" y="3573360"/>
              <a:chExt cx="456840" cy="428040"/>
            </a:xfrm>
          </p:grpSpPr>
          <p:sp>
            <p:nvSpPr>
              <p:cNvPr id="326" name=""/>
              <p:cNvSpPr/>
              <p:nvPr/>
            </p:nvSpPr>
            <p:spPr>
              <a:xfrm>
                <a:off x="7338240" y="357336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35640" y="39085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6245280" y="387792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8:50:12Z</dcterms:created>
  <dc:creator>xw</dc:creator>
  <dc:description/>
  <dc:language>en-US</dc:language>
  <cp:lastModifiedBy>xw</cp:lastModifiedBy>
  <cp:lastPrinted>2002-07-08T02:44:19Z</cp:lastPrinted>
  <dcterms:modified xsi:type="dcterms:W3CDTF">2004-01-11T03:46:52Z</dcterms:modified>
  <cp:revision>14</cp:revision>
  <dc:subject/>
  <dc:title>D008 访问控制列表和地址转换</dc:title>
</cp:coreProperties>
</file>